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6AC-FEBB-41F1-ABDC-88C67C8E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EE9-E363-4F37-8017-DE667BF8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B2B-9ABD-46C6-AA73-4BE3034B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272-2120-4D4E-A62E-23772ED6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D675-D264-40E0-8442-3E591C02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8B7D-1002-46F0-A1E6-611443C6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3950-3341-4711-AEC9-AB2A0710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A55A-E929-4EDB-A253-EF48A220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44D6-E355-4CB1-BAB9-53882293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47AB-641B-4435-9C26-45C1023E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0BEA-1CF3-4D6C-84DF-F3AC830E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222-2371-4499-999D-0BB9A872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BD20-605E-4711-A8C6-EC657527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09F5-7BD0-4B2F-9C6F-95EC50E9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2E9A-8D1F-48A8-B698-6AD62B9A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8390-498C-4BD6-AB14-448EDC10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C637-A87F-4FB9-951A-F9F36ACD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65A-25B7-4414-B217-FF920E34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33A-2D8A-41F9-87F2-647B1712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27A-956D-446A-B67A-AB5A56EA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F38-E621-4EC4-84D1-73225101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2EF-EE68-4EE0-BC22-2521C6C5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E1FC-BD33-4828-99D3-3C1DFC56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E43-8951-477D-BF45-90B06E30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AB57-2E83-44CD-9DDE-4A90F86827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FD8F-E9BD-491E-BED8-5E2F5554C0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Lesson 9.3</a:t>
            </a:r>
            <a:endParaRPr b="0" lang="en-US" sz="75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df"/>
                </a:solidFill>
                <a:latin typeface="Tahoma"/>
              </a:rPr>
              <a:t>Geometric Sequence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equence where the consecutive terms have a “common ratio”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r” is the common ratio that is determined when consecutive terms are divided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Is each sequence geometric?</a:t>
            </a:r>
            <a:br>
              <a:rPr sz="4000"/>
            </a:b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If so, find “r”.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2, 4, 8, 16, …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, -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27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Tahoma"/>
              </a:rPr>
              <a:t>81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, …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3, 6, 18, 64, …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Ink 7"/>
          <p:cNvSpPr/>
          <p:nvPr/>
        </p:nvSpPr>
        <p:spPr>
          <a:xfrm>
            <a:off x="4606920" y="1697040"/>
            <a:ext cx="1474920" cy="633240"/>
          </a:xfrm>
          <a:custGeom>
            <a:avLst/>
            <a:gdLst/>
            <a:ahLst/>
            <a:rect l="l" t="t" r="r" b="b"/>
            <a:pathLst>
              <a:path w="4094" h="1762">
                <a:moveTo>
                  <a:pt x="12799" y="5060"/>
                </a:moveTo>
                <a:cubicBezTo>
                  <a:pt x="12827" y="5173"/>
                  <a:pt x="12814" y="5297"/>
                  <a:pt x="12849" y="5407"/>
                </a:cubicBezTo>
                <a:cubicBezTo>
                  <a:pt x="12872" y="5478"/>
                  <a:pt x="12885" y="5564"/>
                  <a:pt x="12923" y="5631"/>
                </a:cubicBezTo>
                <a:cubicBezTo>
                  <a:pt x="12957" y="5692"/>
                  <a:pt x="12993" y="5715"/>
                  <a:pt x="13047" y="5755"/>
                </a:cubicBezTo>
                <a:cubicBezTo>
                  <a:pt x="13141" y="5825"/>
                  <a:pt x="13161" y="5753"/>
                  <a:pt x="13221" y="5705"/>
                </a:cubicBezTo>
                <a:cubicBezTo>
                  <a:pt x="13288" y="5651"/>
                  <a:pt x="13322" y="5582"/>
                  <a:pt x="13370" y="5507"/>
                </a:cubicBezTo>
                <a:cubicBezTo>
                  <a:pt x="13407" y="5449"/>
                  <a:pt x="13435" y="5349"/>
                  <a:pt x="13444" y="5283"/>
                </a:cubicBezTo>
                <a:cubicBezTo>
                  <a:pt x="13454" y="5205"/>
                  <a:pt x="13469" y="5140"/>
                  <a:pt x="13469" y="5060"/>
                </a:cubicBezTo>
                <a:cubicBezTo>
                  <a:pt x="13469" y="4989"/>
                  <a:pt x="13442" y="4959"/>
                  <a:pt x="13395" y="4911"/>
                </a:cubicBezTo>
                <a:cubicBezTo>
                  <a:pt x="13385" y="4980"/>
                  <a:pt x="13370" y="5032"/>
                  <a:pt x="13370" y="5110"/>
                </a:cubicBezTo>
                <a:cubicBezTo>
                  <a:pt x="13370" y="5255"/>
                  <a:pt x="13379" y="5391"/>
                  <a:pt x="13395" y="5531"/>
                </a:cubicBezTo>
                <a:cubicBezTo>
                  <a:pt x="13408" y="5647"/>
                  <a:pt x="13432" y="5763"/>
                  <a:pt x="13444" y="5879"/>
                </a:cubicBezTo>
                <a:cubicBezTo>
                  <a:pt x="13455" y="5984"/>
                  <a:pt x="13430" y="6076"/>
                  <a:pt x="13419" y="6176"/>
                </a:cubicBezTo>
                <a:cubicBezTo>
                  <a:pt x="13409" y="6270"/>
                  <a:pt x="13396" y="6358"/>
                  <a:pt x="13320" y="6424"/>
                </a:cubicBezTo>
                <a:cubicBezTo>
                  <a:pt x="13271" y="6467"/>
                  <a:pt x="13161" y="6492"/>
                  <a:pt x="13097" y="6474"/>
                </a:cubicBezTo>
                <a:cubicBezTo>
                  <a:pt x="13068" y="6466"/>
                  <a:pt x="12983" y="6409"/>
                  <a:pt x="12973" y="6375"/>
                </a:cubicBezTo>
                <a:cubicBezTo>
                  <a:pt x="12973" y="6325"/>
                  <a:pt x="12973" y="6309"/>
                  <a:pt x="12973" y="6276"/>
                </a:cubicBezTo>
              </a:path>
              <a:path w="4094" h="1762">
                <a:moveTo>
                  <a:pt x="13767" y="5333"/>
                </a:moveTo>
                <a:cubicBezTo>
                  <a:pt x="13853" y="5295"/>
                  <a:pt x="13922" y="5270"/>
                  <a:pt x="13990" y="5209"/>
                </a:cubicBezTo>
                <a:cubicBezTo>
                  <a:pt x="14032" y="5171"/>
                  <a:pt x="14062" y="5135"/>
                  <a:pt x="14089" y="5085"/>
                </a:cubicBezTo>
                <a:cubicBezTo>
                  <a:pt x="14097" y="5068"/>
                  <a:pt x="14106" y="5052"/>
                  <a:pt x="14114" y="5035"/>
                </a:cubicBezTo>
                <a:cubicBezTo>
                  <a:pt x="14060" y="5004"/>
                  <a:pt x="14019" y="5000"/>
                  <a:pt x="13965" y="5035"/>
                </a:cubicBezTo>
                <a:cubicBezTo>
                  <a:pt x="13891" y="5083"/>
                  <a:pt x="13856" y="5134"/>
                  <a:pt x="13816" y="5209"/>
                </a:cubicBezTo>
                <a:cubicBezTo>
                  <a:pt x="13773" y="5290"/>
                  <a:pt x="13767" y="5341"/>
                  <a:pt x="13767" y="5432"/>
                </a:cubicBezTo>
                <a:cubicBezTo>
                  <a:pt x="13767" y="5511"/>
                  <a:pt x="13788" y="5553"/>
                  <a:pt x="13841" y="5606"/>
                </a:cubicBezTo>
                <a:cubicBezTo>
                  <a:pt x="13899" y="5664"/>
                  <a:pt x="13996" y="5625"/>
                  <a:pt x="14064" y="5606"/>
                </a:cubicBezTo>
              </a:path>
              <a:path w="4094" h="1762">
                <a:moveTo>
                  <a:pt x="14486" y="4961"/>
                </a:moveTo>
                <a:cubicBezTo>
                  <a:pt x="14356" y="5007"/>
                  <a:pt x="14333" y="5024"/>
                  <a:pt x="14238" y="5085"/>
                </a:cubicBezTo>
                <a:cubicBezTo>
                  <a:pt x="14221" y="5093"/>
                  <a:pt x="14205" y="5102"/>
                  <a:pt x="14188" y="5110"/>
                </a:cubicBezTo>
                <a:cubicBezTo>
                  <a:pt x="14199" y="5185"/>
                  <a:pt x="14218" y="5197"/>
                  <a:pt x="14288" y="5234"/>
                </a:cubicBezTo>
                <a:cubicBezTo>
                  <a:pt x="14360" y="5273"/>
                  <a:pt x="14403" y="5307"/>
                  <a:pt x="14461" y="5358"/>
                </a:cubicBezTo>
                <a:cubicBezTo>
                  <a:pt x="14528" y="5417"/>
                  <a:pt x="14558" y="5490"/>
                  <a:pt x="14536" y="5581"/>
                </a:cubicBezTo>
                <a:cubicBezTo>
                  <a:pt x="14519" y="5652"/>
                  <a:pt x="14448" y="5670"/>
                  <a:pt x="14387" y="5680"/>
                </a:cubicBezTo>
                <a:cubicBezTo>
                  <a:pt x="14336" y="5689"/>
                  <a:pt x="14232" y="5657"/>
                  <a:pt x="14188" y="5631"/>
                </a:cubicBezTo>
                <a:cubicBezTo>
                  <a:pt x="14158" y="5601"/>
                  <a:pt x="14147" y="5587"/>
                  <a:pt x="14139" y="5556"/>
                </a:cubicBezTo>
              </a:path>
              <a:path w="4094" h="1762">
                <a:moveTo>
                  <a:pt x="14883" y="4887"/>
                </a:moveTo>
                <a:cubicBezTo>
                  <a:pt x="14891" y="4879"/>
                  <a:pt x="14900" y="4870"/>
                  <a:pt x="14908" y="4862"/>
                </a:cubicBezTo>
              </a:path>
              <a:path w="4094" h="1762">
                <a:moveTo>
                  <a:pt x="14957" y="5383"/>
                </a:moveTo>
                <a:cubicBezTo>
                  <a:pt x="14973" y="5562"/>
                  <a:pt x="14956" y="5562"/>
                  <a:pt x="14932" y="5705"/>
                </a:cubicBezTo>
                <a:cubicBezTo>
                  <a:pt x="14920" y="5775"/>
                  <a:pt x="14908" y="5823"/>
                  <a:pt x="14858" y="5879"/>
                </a:cubicBezTo>
                <a:cubicBezTo>
                  <a:pt x="14827" y="5914"/>
                  <a:pt x="14800" y="5943"/>
                  <a:pt x="14759" y="5953"/>
                </a:cubicBezTo>
              </a:path>
              <a:path w="4094" h="1762">
                <a:moveTo>
                  <a:pt x="15329" y="5110"/>
                </a:moveTo>
                <a:cubicBezTo>
                  <a:pt x="15329" y="5271"/>
                  <a:pt x="15328" y="5428"/>
                  <a:pt x="15354" y="5581"/>
                </a:cubicBezTo>
                <a:cubicBezTo>
                  <a:pt x="15354" y="5598"/>
                  <a:pt x="15354" y="5614"/>
                  <a:pt x="15354" y="5631"/>
                </a:cubicBezTo>
                <a:cubicBezTo>
                  <a:pt x="15299" y="5548"/>
                  <a:pt x="15304" y="5482"/>
                  <a:pt x="15304" y="5383"/>
                </a:cubicBezTo>
                <a:cubicBezTo>
                  <a:pt x="15304" y="5281"/>
                  <a:pt x="15292" y="5181"/>
                  <a:pt x="15329" y="5085"/>
                </a:cubicBezTo>
                <a:cubicBezTo>
                  <a:pt x="15363" y="4995"/>
                  <a:pt x="15387" y="4946"/>
                  <a:pt x="15453" y="4887"/>
                </a:cubicBezTo>
                <a:cubicBezTo>
                  <a:pt x="15531" y="4818"/>
                  <a:pt x="15622" y="4781"/>
                  <a:pt x="15701" y="4738"/>
                </a:cubicBezTo>
                <a:cubicBezTo>
                  <a:pt x="15724" y="4715"/>
                  <a:pt x="15728" y="4707"/>
                  <a:pt x="15751" y="4713"/>
                </a:cubicBezTo>
              </a:path>
              <a:path w="4094" h="1762">
                <a:moveTo>
                  <a:pt x="15677" y="5011"/>
                </a:moveTo>
                <a:cubicBezTo>
                  <a:pt x="15762" y="5011"/>
                  <a:pt x="15822" y="4999"/>
                  <a:pt x="15900" y="4986"/>
                </a:cubicBezTo>
                <a:cubicBezTo>
                  <a:pt x="15916" y="4986"/>
                  <a:pt x="15933" y="4986"/>
                  <a:pt x="15949" y="4986"/>
                </a:cubicBezTo>
              </a:path>
              <a:path w="4094" h="1762">
                <a:moveTo>
                  <a:pt x="15701" y="5259"/>
                </a:moveTo>
                <a:cubicBezTo>
                  <a:pt x="15797" y="5259"/>
                  <a:pt x="15840" y="5252"/>
                  <a:pt x="15925" y="5209"/>
                </a:cubicBezTo>
                <a:cubicBezTo>
                  <a:pt x="15941" y="5201"/>
                  <a:pt x="15958" y="5192"/>
                  <a:pt x="15974" y="5184"/>
                </a:cubicBezTo>
              </a:path>
              <a:path w="4094" h="1762">
                <a:moveTo>
                  <a:pt x="16321" y="4762"/>
                </a:moveTo>
                <a:cubicBezTo>
                  <a:pt x="16485" y="4739"/>
                  <a:pt x="16553" y="4722"/>
                  <a:pt x="16694" y="4812"/>
                </a:cubicBezTo>
                <a:cubicBezTo>
                  <a:pt x="16774" y="4863"/>
                  <a:pt x="16768" y="4927"/>
                  <a:pt x="16743" y="5011"/>
                </a:cubicBezTo>
                <a:cubicBezTo>
                  <a:pt x="16723" y="5080"/>
                  <a:pt x="16642" y="5158"/>
                  <a:pt x="16594" y="5209"/>
                </a:cubicBezTo>
                <a:cubicBezTo>
                  <a:pt x="16533" y="5274"/>
                  <a:pt x="16484" y="5346"/>
                  <a:pt x="16446" y="5407"/>
                </a:cubicBezTo>
                <a:cubicBezTo>
                  <a:pt x="16402" y="5478"/>
                  <a:pt x="16481" y="5520"/>
                  <a:pt x="16545" y="5556"/>
                </a:cubicBezTo>
                <a:cubicBezTo>
                  <a:pt x="16631" y="5604"/>
                  <a:pt x="16729" y="5636"/>
                  <a:pt x="16818" y="5680"/>
                </a:cubicBezTo>
                <a:cubicBezTo>
                  <a:pt x="16869" y="5705"/>
                  <a:pt x="16880" y="5707"/>
                  <a:pt x="16892" y="57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Ink 8"/>
          <p:cNvSpPr/>
          <p:nvPr/>
        </p:nvSpPr>
        <p:spPr>
          <a:xfrm>
            <a:off x="6170760" y="2768760"/>
            <a:ext cx="714240" cy="536400"/>
          </a:xfrm>
          <a:custGeom>
            <a:avLst/>
            <a:gdLst/>
            <a:ahLst/>
            <a:rect l="l" t="t" r="r" b="b"/>
            <a:pathLst>
              <a:path w="1985" h="1490">
                <a:moveTo>
                  <a:pt x="17239" y="7813"/>
                </a:moveTo>
                <a:cubicBezTo>
                  <a:pt x="17239" y="7893"/>
                  <a:pt x="17218" y="7959"/>
                  <a:pt x="17214" y="8037"/>
                </a:cubicBezTo>
                <a:cubicBezTo>
                  <a:pt x="17210" y="8113"/>
                  <a:pt x="17227" y="8166"/>
                  <a:pt x="17239" y="8235"/>
                </a:cubicBezTo>
                <a:cubicBezTo>
                  <a:pt x="17251" y="8305"/>
                  <a:pt x="17271" y="8372"/>
                  <a:pt x="17314" y="8434"/>
                </a:cubicBezTo>
                <a:cubicBezTo>
                  <a:pt x="17361" y="8502"/>
                  <a:pt x="17401" y="8481"/>
                  <a:pt x="17462" y="8458"/>
                </a:cubicBezTo>
                <a:cubicBezTo>
                  <a:pt x="17561" y="8421"/>
                  <a:pt x="17565" y="8403"/>
                  <a:pt x="17611" y="8310"/>
                </a:cubicBezTo>
                <a:cubicBezTo>
                  <a:pt x="17645" y="8242"/>
                  <a:pt x="17674" y="8158"/>
                  <a:pt x="17686" y="8086"/>
                </a:cubicBezTo>
                <a:cubicBezTo>
                  <a:pt x="17700" y="8000"/>
                  <a:pt x="17691" y="7951"/>
                  <a:pt x="17686" y="7863"/>
                </a:cubicBezTo>
                <a:cubicBezTo>
                  <a:pt x="17686" y="7818"/>
                  <a:pt x="17690" y="7805"/>
                  <a:pt x="17661" y="7789"/>
                </a:cubicBezTo>
                <a:cubicBezTo>
                  <a:pt x="17606" y="7856"/>
                  <a:pt x="17611" y="7902"/>
                  <a:pt x="17611" y="7987"/>
                </a:cubicBezTo>
                <a:cubicBezTo>
                  <a:pt x="17611" y="8139"/>
                  <a:pt x="17599" y="8283"/>
                  <a:pt x="17587" y="8434"/>
                </a:cubicBezTo>
                <a:cubicBezTo>
                  <a:pt x="17576" y="8570"/>
                  <a:pt x="17601" y="8698"/>
                  <a:pt x="17562" y="8830"/>
                </a:cubicBezTo>
                <a:cubicBezTo>
                  <a:pt x="17537" y="8915"/>
                  <a:pt x="17544" y="9006"/>
                  <a:pt x="17487" y="9079"/>
                </a:cubicBezTo>
                <a:cubicBezTo>
                  <a:pt x="17444" y="9135"/>
                  <a:pt x="17405" y="9175"/>
                  <a:pt x="17338" y="9178"/>
                </a:cubicBezTo>
                <a:cubicBezTo>
                  <a:pt x="17270" y="9181"/>
                  <a:pt x="17187" y="9155"/>
                  <a:pt x="17165" y="9079"/>
                </a:cubicBezTo>
                <a:cubicBezTo>
                  <a:pt x="17165" y="9027"/>
                  <a:pt x="17164" y="9009"/>
                  <a:pt x="17140" y="8979"/>
                </a:cubicBezTo>
              </a:path>
              <a:path w="1985" h="1490">
                <a:moveTo>
                  <a:pt x="17611" y="8111"/>
                </a:moveTo>
                <a:cubicBezTo>
                  <a:pt x="17714" y="8075"/>
                  <a:pt x="17771" y="8059"/>
                  <a:pt x="17859" y="8012"/>
                </a:cubicBezTo>
                <a:cubicBezTo>
                  <a:pt x="17923" y="7978"/>
                  <a:pt x="17973" y="7983"/>
                  <a:pt x="18033" y="7938"/>
                </a:cubicBezTo>
                <a:cubicBezTo>
                  <a:pt x="18070" y="7910"/>
                  <a:pt x="18124" y="7864"/>
                  <a:pt x="18107" y="7813"/>
                </a:cubicBezTo>
                <a:cubicBezTo>
                  <a:pt x="18081" y="7734"/>
                  <a:pt x="17975" y="7789"/>
                  <a:pt x="17934" y="7813"/>
                </a:cubicBezTo>
                <a:cubicBezTo>
                  <a:pt x="17883" y="7843"/>
                  <a:pt x="17837" y="7912"/>
                  <a:pt x="17810" y="7962"/>
                </a:cubicBezTo>
                <a:cubicBezTo>
                  <a:pt x="17769" y="8040"/>
                  <a:pt x="17777" y="8094"/>
                  <a:pt x="17785" y="8161"/>
                </a:cubicBezTo>
                <a:cubicBezTo>
                  <a:pt x="17790" y="8205"/>
                  <a:pt x="17801" y="8293"/>
                  <a:pt x="17859" y="8310"/>
                </a:cubicBezTo>
                <a:cubicBezTo>
                  <a:pt x="17916" y="8326"/>
                  <a:pt x="17989" y="8311"/>
                  <a:pt x="18033" y="8285"/>
                </a:cubicBezTo>
              </a:path>
              <a:path w="1985" h="1490">
                <a:moveTo>
                  <a:pt x="18529" y="7739"/>
                </a:moveTo>
                <a:cubicBezTo>
                  <a:pt x="18478" y="7688"/>
                  <a:pt x="18433" y="7670"/>
                  <a:pt x="18355" y="7689"/>
                </a:cubicBezTo>
                <a:cubicBezTo>
                  <a:pt x="18298" y="7703"/>
                  <a:pt x="18215" y="7744"/>
                  <a:pt x="18231" y="7813"/>
                </a:cubicBezTo>
                <a:cubicBezTo>
                  <a:pt x="18249" y="7888"/>
                  <a:pt x="18330" y="7943"/>
                  <a:pt x="18380" y="7987"/>
                </a:cubicBezTo>
                <a:cubicBezTo>
                  <a:pt x="18437" y="8037"/>
                  <a:pt x="18484" y="8082"/>
                  <a:pt x="18529" y="8136"/>
                </a:cubicBezTo>
                <a:cubicBezTo>
                  <a:pt x="18565" y="8179"/>
                  <a:pt x="18614" y="8280"/>
                  <a:pt x="18529" y="8310"/>
                </a:cubicBezTo>
                <a:cubicBezTo>
                  <a:pt x="18469" y="8331"/>
                  <a:pt x="18396" y="8334"/>
                  <a:pt x="18331" y="8334"/>
                </a:cubicBezTo>
                <a:cubicBezTo>
                  <a:pt x="18300" y="8334"/>
                  <a:pt x="18157" y="8346"/>
                  <a:pt x="18157" y="8285"/>
                </a:cubicBezTo>
                <a:cubicBezTo>
                  <a:pt x="18165" y="8277"/>
                  <a:pt x="18174" y="8268"/>
                  <a:pt x="18182" y="8260"/>
                </a:cubicBezTo>
              </a:path>
              <a:path w="1985" h="1490">
                <a:moveTo>
                  <a:pt x="18852" y="7913"/>
                </a:moveTo>
                <a:cubicBezTo>
                  <a:pt x="18926" y="7913"/>
                  <a:pt x="19001" y="7913"/>
                  <a:pt x="19075" y="7913"/>
                </a:cubicBezTo>
              </a:path>
              <a:path w="1985" h="1490">
                <a:moveTo>
                  <a:pt x="18876" y="8037"/>
                </a:moveTo>
                <a:cubicBezTo>
                  <a:pt x="18972" y="8051"/>
                  <a:pt x="19033" y="8062"/>
                  <a:pt x="19124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Ink 9"/>
          <p:cNvSpPr/>
          <p:nvPr/>
        </p:nvSpPr>
        <p:spPr>
          <a:xfrm>
            <a:off x="7108920" y="2446200"/>
            <a:ext cx="911160" cy="546120"/>
          </a:xfrm>
          <a:custGeom>
            <a:avLst/>
            <a:gdLst/>
            <a:ahLst/>
            <a:rect l="l" t="t" r="r" b="b"/>
            <a:pathLst>
              <a:path w="2531" h="1515">
                <a:moveTo>
                  <a:pt x="19769" y="7863"/>
                </a:moveTo>
                <a:cubicBezTo>
                  <a:pt x="19769" y="7992"/>
                  <a:pt x="19771" y="8121"/>
                  <a:pt x="19794" y="8235"/>
                </a:cubicBezTo>
                <a:cubicBezTo>
                  <a:pt x="19794" y="8280"/>
                  <a:pt x="19797" y="8293"/>
                  <a:pt x="19769" y="8310"/>
                </a:cubicBezTo>
                <a:cubicBezTo>
                  <a:pt x="19769" y="8237"/>
                  <a:pt x="19754" y="8178"/>
                  <a:pt x="19745" y="8111"/>
                </a:cubicBezTo>
                <a:cubicBezTo>
                  <a:pt x="19738" y="8055"/>
                  <a:pt x="19755" y="7920"/>
                  <a:pt x="19769" y="7863"/>
                </a:cubicBezTo>
                <a:cubicBezTo>
                  <a:pt x="19784" y="7799"/>
                  <a:pt x="19837" y="7742"/>
                  <a:pt x="19869" y="7689"/>
                </a:cubicBezTo>
                <a:cubicBezTo>
                  <a:pt x="19918" y="7606"/>
                  <a:pt x="19932" y="7619"/>
                  <a:pt x="20017" y="7590"/>
                </a:cubicBezTo>
                <a:cubicBezTo>
                  <a:pt x="20095" y="7564"/>
                  <a:pt x="20157" y="7546"/>
                  <a:pt x="20241" y="7541"/>
                </a:cubicBezTo>
                <a:cubicBezTo>
                  <a:pt x="20249" y="7541"/>
                  <a:pt x="20257" y="7541"/>
                  <a:pt x="20265" y="7541"/>
                </a:cubicBezTo>
              </a:path>
              <a:path w="2531" h="1515">
                <a:moveTo>
                  <a:pt x="20340" y="7665"/>
                </a:moveTo>
                <a:cubicBezTo>
                  <a:pt x="20447" y="7665"/>
                  <a:pt x="20455" y="7665"/>
                  <a:pt x="20513" y="7665"/>
                </a:cubicBezTo>
              </a:path>
              <a:path w="2531" h="1515">
                <a:moveTo>
                  <a:pt x="20315" y="7888"/>
                </a:moveTo>
                <a:cubicBezTo>
                  <a:pt x="20464" y="7869"/>
                  <a:pt x="20480" y="7861"/>
                  <a:pt x="20563" y="7863"/>
                </a:cubicBezTo>
              </a:path>
              <a:path w="2531" h="1515">
                <a:moveTo>
                  <a:pt x="20836" y="7293"/>
                </a:moveTo>
                <a:cubicBezTo>
                  <a:pt x="20926" y="7293"/>
                  <a:pt x="21025" y="7292"/>
                  <a:pt x="21109" y="7268"/>
                </a:cubicBezTo>
                <a:cubicBezTo>
                  <a:pt x="21125" y="7260"/>
                  <a:pt x="21142" y="7251"/>
                  <a:pt x="21158" y="7243"/>
                </a:cubicBezTo>
              </a:path>
              <a:path w="2531" h="1515">
                <a:moveTo>
                  <a:pt x="21406" y="6821"/>
                </a:moveTo>
                <a:cubicBezTo>
                  <a:pt x="21406" y="7012"/>
                  <a:pt x="21389" y="7211"/>
                  <a:pt x="21431" y="7392"/>
                </a:cubicBezTo>
                <a:cubicBezTo>
                  <a:pt x="21431" y="7400"/>
                  <a:pt x="21431" y="7409"/>
                  <a:pt x="21431" y="7417"/>
                </a:cubicBezTo>
              </a:path>
              <a:path w="2531" h="1515">
                <a:moveTo>
                  <a:pt x="21779" y="6796"/>
                </a:moveTo>
                <a:cubicBezTo>
                  <a:pt x="21771" y="6853"/>
                  <a:pt x="21748" y="6914"/>
                  <a:pt x="21729" y="6970"/>
                </a:cubicBezTo>
                <a:cubicBezTo>
                  <a:pt x="21682" y="7111"/>
                  <a:pt x="21628" y="7251"/>
                  <a:pt x="21580" y="7392"/>
                </a:cubicBezTo>
                <a:cubicBezTo>
                  <a:pt x="21547" y="7490"/>
                  <a:pt x="21539" y="7588"/>
                  <a:pt x="21506" y="7689"/>
                </a:cubicBezTo>
                <a:cubicBezTo>
                  <a:pt x="21479" y="7771"/>
                  <a:pt x="21457" y="7861"/>
                  <a:pt x="21431" y="7938"/>
                </a:cubicBezTo>
                <a:cubicBezTo>
                  <a:pt x="21417" y="7979"/>
                  <a:pt x="21382" y="8145"/>
                  <a:pt x="21382" y="8037"/>
                </a:cubicBezTo>
              </a:path>
              <a:path w="2531" h="1515">
                <a:moveTo>
                  <a:pt x="21903" y="7565"/>
                </a:moveTo>
                <a:cubicBezTo>
                  <a:pt x="21978" y="7523"/>
                  <a:pt x="22011" y="7516"/>
                  <a:pt x="22101" y="7516"/>
                </a:cubicBezTo>
                <a:cubicBezTo>
                  <a:pt x="22118" y="7516"/>
                  <a:pt x="22134" y="7516"/>
                  <a:pt x="22151" y="7516"/>
                </a:cubicBezTo>
                <a:cubicBezTo>
                  <a:pt x="22143" y="7577"/>
                  <a:pt x="22133" y="7628"/>
                  <a:pt x="22076" y="7665"/>
                </a:cubicBezTo>
                <a:cubicBezTo>
                  <a:pt x="22006" y="7710"/>
                  <a:pt x="21778" y="7727"/>
                  <a:pt x="21853" y="7764"/>
                </a:cubicBezTo>
                <a:cubicBezTo>
                  <a:pt x="21899" y="7787"/>
                  <a:pt x="21986" y="7722"/>
                  <a:pt x="22051" y="7739"/>
                </a:cubicBezTo>
                <a:cubicBezTo>
                  <a:pt x="22094" y="7750"/>
                  <a:pt x="22201" y="7829"/>
                  <a:pt x="22225" y="7863"/>
                </a:cubicBezTo>
                <a:cubicBezTo>
                  <a:pt x="22260" y="7912"/>
                  <a:pt x="22272" y="8004"/>
                  <a:pt x="22275" y="8062"/>
                </a:cubicBezTo>
                <a:cubicBezTo>
                  <a:pt x="22279" y="8127"/>
                  <a:pt x="22238" y="8185"/>
                  <a:pt x="22200" y="8235"/>
                </a:cubicBezTo>
                <a:cubicBezTo>
                  <a:pt x="22123" y="8336"/>
                  <a:pt x="22012" y="8266"/>
                  <a:pt x="21927" y="8235"/>
                </a:cubicBezTo>
                <a:cubicBezTo>
                  <a:pt x="21863" y="8211"/>
                  <a:pt x="21794" y="8199"/>
                  <a:pt x="21729" y="81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Ink 10"/>
          <p:cNvSpPr/>
          <p:nvPr/>
        </p:nvSpPr>
        <p:spPr>
          <a:xfrm>
            <a:off x="4759200" y="3419640"/>
            <a:ext cx="884520" cy="607680"/>
          </a:xfrm>
          <a:custGeom>
            <a:avLst/>
            <a:gdLst/>
            <a:ahLst/>
            <a:rect l="l" t="t" r="r" b="b"/>
            <a:pathLst>
              <a:path w="2457" h="1688">
                <a:moveTo>
                  <a:pt x="13370" y="9773"/>
                </a:moveTo>
                <a:cubicBezTo>
                  <a:pt x="13370" y="9855"/>
                  <a:pt x="13348" y="9915"/>
                  <a:pt x="13345" y="9996"/>
                </a:cubicBezTo>
                <a:cubicBezTo>
                  <a:pt x="13340" y="10117"/>
                  <a:pt x="13338" y="10231"/>
                  <a:pt x="13345" y="10344"/>
                </a:cubicBezTo>
                <a:cubicBezTo>
                  <a:pt x="13357" y="10545"/>
                  <a:pt x="13339" y="10746"/>
                  <a:pt x="13370" y="10939"/>
                </a:cubicBezTo>
                <a:cubicBezTo>
                  <a:pt x="13370" y="10980"/>
                  <a:pt x="13378" y="10996"/>
                  <a:pt x="13345" y="10988"/>
                </a:cubicBezTo>
              </a:path>
              <a:path w="2457" h="1688">
                <a:moveTo>
                  <a:pt x="13221" y="9674"/>
                </a:moveTo>
                <a:cubicBezTo>
                  <a:pt x="13346" y="9848"/>
                  <a:pt x="13434" y="10018"/>
                  <a:pt x="13543" y="10195"/>
                </a:cubicBezTo>
                <a:cubicBezTo>
                  <a:pt x="13683" y="10422"/>
                  <a:pt x="13835" y="10647"/>
                  <a:pt x="13990" y="10864"/>
                </a:cubicBezTo>
                <a:cubicBezTo>
                  <a:pt x="14057" y="10958"/>
                  <a:pt x="14146" y="11090"/>
                  <a:pt x="14238" y="11162"/>
                </a:cubicBezTo>
                <a:cubicBezTo>
                  <a:pt x="14286" y="11186"/>
                  <a:pt x="14300" y="11194"/>
                  <a:pt x="14337" y="11187"/>
                </a:cubicBezTo>
              </a:path>
              <a:path w="2457" h="1688">
                <a:moveTo>
                  <a:pt x="14163" y="9500"/>
                </a:moveTo>
                <a:cubicBezTo>
                  <a:pt x="14143" y="9645"/>
                  <a:pt x="14139" y="9776"/>
                  <a:pt x="14139" y="9922"/>
                </a:cubicBezTo>
                <a:cubicBezTo>
                  <a:pt x="14139" y="10238"/>
                  <a:pt x="14139" y="10552"/>
                  <a:pt x="14163" y="10864"/>
                </a:cubicBezTo>
                <a:cubicBezTo>
                  <a:pt x="14170" y="10958"/>
                  <a:pt x="14159" y="11049"/>
                  <a:pt x="14188" y="11137"/>
                </a:cubicBezTo>
                <a:cubicBezTo>
                  <a:pt x="14212" y="11185"/>
                  <a:pt x="14218" y="11202"/>
                  <a:pt x="14263" y="11187"/>
                </a:cubicBezTo>
              </a:path>
              <a:path w="2457" h="1688">
                <a:moveTo>
                  <a:pt x="14808" y="9872"/>
                </a:moveTo>
                <a:cubicBezTo>
                  <a:pt x="14800" y="9999"/>
                  <a:pt x="14772" y="10119"/>
                  <a:pt x="14759" y="10244"/>
                </a:cubicBezTo>
                <a:cubicBezTo>
                  <a:pt x="14745" y="10380"/>
                  <a:pt x="14749" y="10535"/>
                  <a:pt x="14784" y="10666"/>
                </a:cubicBezTo>
                <a:cubicBezTo>
                  <a:pt x="14816" y="10786"/>
                  <a:pt x="14851" y="10870"/>
                  <a:pt x="14932" y="10964"/>
                </a:cubicBezTo>
                <a:cubicBezTo>
                  <a:pt x="15003" y="11046"/>
                  <a:pt x="15105" y="11101"/>
                  <a:pt x="15205" y="11137"/>
                </a:cubicBezTo>
                <a:cubicBezTo>
                  <a:pt x="15330" y="11182"/>
                  <a:pt x="15415" y="11195"/>
                  <a:pt x="15528" y="11112"/>
                </a:cubicBezTo>
                <a:cubicBezTo>
                  <a:pt x="15620" y="11044"/>
                  <a:pt x="15662" y="10952"/>
                  <a:pt x="15677" y="10840"/>
                </a:cubicBezTo>
                <a:cubicBezTo>
                  <a:pt x="15698" y="10683"/>
                  <a:pt x="15686" y="10497"/>
                  <a:pt x="15652" y="10344"/>
                </a:cubicBezTo>
                <a:cubicBezTo>
                  <a:pt x="15620" y="10201"/>
                  <a:pt x="15577" y="10074"/>
                  <a:pt x="15503" y="9947"/>
                </a:cubicBezTo>
                <a:cubicBezTo>
                  <a:pt x="15439" y="9836"/>
                  <a:pt x="15374" y="9779"/>
                  <a:pt x="15280" y="9699"/>
                </a:cubicBezTo>
                <a:cubicBezTo>
                  <a:pt x="15193" y="9624"/>
                  <a:pt x="15148" y="9580"/>
                  <a:pt x="15032" y="9575"/>
                </a:cubicBezTo>
                <a:cubicBezTo>
                  <a:pt x="14960" y="9572"/>
                  <a:pt x="14843" y="9572"/>
                  <a:pt x="14784" y="9624"/>
                </a:cubicBezTo>
                <a:cubicBezTo>
                  <a:pt x="14723" y="9678"/>
                  <a:pt x="14671" y="9818"/>
                  <a:pt x="14660" y="9897"/>
                </a:cubicBezTo>
                <a:cubicBezTo>
                  <a:pt x="14642" y="10029"/>
                  <a:pt x="14657" y="10221"/>
                  <a:pt x="14709" y="10344"/>
                </a:cubicBezTo>
                <a:cubicBezTo>
                  <a:pt x="14783" y="10518"/>
                  <a:pt x="14876" y="10692"/>
                  <a:pt x="14957" y="108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The n</a:t>
            </a:r>
            <a:r>
              <a:rPr b="0" lang="en-US" sz="4000" spc="-1" strike="noStrike" baseline="30000">
                <a:solidFill>
                  <a:srgbClr val="d1d1d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 term of a geometric sequence is determined by:</a:t>
            </a:r>
            <a:br>
              <a:rPr sz="4000"/>
            </a:br>
            <a:r>
              <a:rPr b="1" lang="en-US" sz="5500" spc="-1" strike="noStrike">
                <a:solidFill>
                  <a:srgbClr val="d1d1df"/>
                </a:solidFill>
                <a:latin typeface="Tahoma"/>
              </a:rPr>
              <a:t>A</a:t>
            </a:r>
            <a:r>
              <a:rPr b="1" lang="en-US" sz="5500" spc="-1" strike="noStrike" baseline="-25000">
                <a:solidFill>
                  <a:srgbClr val="d1d1df"/>
                </a:solidFill>
                <a:latin typeface="Tahoma"/>
              </a:rPr>
              <a:t>n</a:t>
            </a:r>
            <a:r>
              <a:rPr b="1" lang="en-US" sz="5500" spc="-1" strike="noStrike">
                <a:solidFill>
                  <a:srgbClr val="d1d1df"/>
                </a:solidFill>
                <a:latin typeface="Tahoma"/>
              </a:rPr>
              <a:t> = A</a:t>
            </a:r>
            <a:r>
              <a:rPr b="1" lang="en-US" sz="5500" spc="-1" strike="noStrike" baseline="-25000">
                <a:solidFill>
                  <a:srgbClr val="d1d1df"/>
                </a:solidFill>
                <a:latin typeface="Tahoma"/>
              </a:rPr>
              <a:t>1</a:t>
            </a:r>
            <a:r>
              <a:rPr b="1" lang="en-US" sz="5500" spc="-1" strike="noStrike">
                <a:solidFill>
                  <a:srgbClr val="d1d1df"/>
                </a:solidFill>
                <a:latin typeface="Tahoma"/>
              </a:rPr>
              <a:t> </a:t>
            </a:r>
            <a:r>
              <a:rPr b="1" lang="en-US" sz="5500" spc="-1" strike="noStrike">
                <a:solidFill>
                  <a:srgbClr val="d1d1df"/>
                </a:solidFill>
                <a:latin typeface="Tahoma"/>
                <a:ea typeface="Arial"/>
              </a:rPr>
              <a:t>• r</a:t>
            </a:r>
            <a:r>
              <a:rPr b="1" lang="en-US" sz="5500" spc="-1" strike="noStrike" baseline="30000">
                <a:solidFill>
                  <a:srgbClr val="d1d1df"/>
                </a:solidFill>
                <a:latin typeface="Tahoma"/>
                <a:ea typeface="Arial"/>
              </a:rPr>
              <a:t>n-1</a:t>
            </a:r>
            <a:endParaRPr b="0" lang="en-US" sz="55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9" name="Ink 5"/>
          <p:cNvSpPr/>
          <p:nvPr/>
        </p:nvSpPr>
        <p:spPr>
          <a:xfrm>
            <a:off x="5500800" y="2724120"/>
            <a:ext cx="115920" cy="500040"/>
          </a:xfrm>
          <a:custGeom>
            <a:avLst/>
            <a:gdLst/>
            <a:ahLst/>
            <a:rect l="l" t="t" r="r" b="b"/>
            <a:pathLst>
              <a:path w="323" h="1390">
                <a:moveTo>
                  <a:pt x="15553" y="7565"/>
                </a:moveTo>
                <a:cubicBezTo>
                  <a:pt x="15522" y="7604"/>
                  <a:pt x="15480" y="7647"/>
                  <a:pt x="15453" y="7689"/>
                </a:cubicBezTo>
                <a:cubicBezTo>
                  <a:pt x="15411" y="7755"/>
                  <a:pt x="15385" y="7815"/>
                  <a:pt x="15354" y="7888"/>
                </a:cubicBezTo>
                <a:cubicBezTo>
                  <a:pt x="15320" y="7968"/>
                  <a:pt x="15292" y="8050"/>
                  <a:pt x="15280" y="8136"/>
                </a:cubicBezTo>
                <a:cubicBezTo>
                  <a:pt x="15267" y="8232"/>
                  <a:pt x="15294" y="8318"/>
                  <a:pt x="15304" y="8409"/>
                </a:cubicBezTo>
                <a:cubicBezTo>
                  <a:pt x="15315" y="8509"/>
                  <a:pt x="15339" y="8589"/>
                  <a:pt x="15379" y="8682"/>
                </a:cubicBezTo>
                <a:cubicBezTo>
                  <a:pt x="15410" y="8754"/>
                  <a:pt x="15448" y="8800"/>
                  <a:pt x="15503" y="8855"/>
                </a:cubicBezTo>
                <a:cubicBezTo>
                  <a:pt x="15536" y="8888"/>
                  <a:pt x="15569" y="8921"/>
                  <a:pt x="15602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Ink 6"/>
          <p:cNvSpPr/>
          <p:nvPr/>
        </p:nvSpPr>
        <p:spPr>
          <a:xfrm>
            <a:off x="5902200" y="2608200"/>
            <a:ext cx="189000" cy="623880"/>
          </a:xfrm>
          <a:custGeom>
            <a:avLst/>
            <a:gdLst/>
            <a:ahLst/>
            <a:rect l="l" t="t" r="r" b="b"/>
            <a:pathLst>
              <a:path w="522" h="1737">
                <a:moveTo>
                  <a:pt x="16917" y="7243"/>
                </a:moveTo>
                <a:cubicBezTo>
                  <a:pt x="16860" y="7254"/>
                  <a:pt x="16834" y="7277"/>
                  <a:pt x="16793" y="7317"/>
                </a:cubicBezTo>
                <a:cubicBezTo>
                  <a:pt x="16751" y="7358"/>
                  <a:pt x="16721" y="7389"/>
                  <a:pt x="16694" y="7441"/>
                </a:cubicBezTo>
                <a:cubicBezTo>
                  <a:pt x="16663" y="7500"/>
                  <a:pt x="16630" y="7548"/>
                  <a:pt x="16619" y="7615"/>
                </a:cubicBezTo>
                <a:cubicBezTo>
                  <a:pt x="16607" y="7690"/>
                  <a:pt x="16574" y="7786"/>
                  <a:pt x="16594" y="7863"/>
                </a:cubicBezTo>
                <a:cubicBezTo>
                  <a:pt x="16619" y="7959"/>
                  <a:pt x="16621" y="8079"/>
                  <a:pt x="16694" y="8161"/>
                </a:cubicBezTo>
                <a:cubicBezTo>
                  <a:pt x="16727" y="8198"/>
                  <a:pt x="16775" y="8204"/>
                  <a:pt x="16818" y="8210"/>
                </a:cubicBezTo>
              </a:path>
              <a:path w="522" h="1737">
                <a:moveTo>
                  <a:pt x="16396" y="7293"/>
                </a:moveTo>
                <a:cubicBezTo>
                  <a:pt x="16449" y="7353"/>
                  <a:pt x="16506" y="7400"/>
                  <a:pt x="16545" y="7466"/>
                </a:cubicBezTo>
                <a:cubicBezTo>
                  <a:pt x="16590" y="7542"/>
                  <a:pt x="16663" y="7632"/>
                  <a:pt x="16694" y="7714"/>
                </a:cubicBezTo>
                <a:cubicBezTo>
                  <a:pt x="16739" y="7831"/>
                  <a:pt x="16757" y="7965"/>
                  <a:pt x="16793" y="8086"/>
                </a:cubicBezTo>
                <a:cubicBezTo>
                  <a:pt x="16824" y="8188"/>
                  <a:pt x="16836" y="8326"/>
                  <a:pt x="16818" y="8434"/>
                </a:cubicBezTo>
                <a:cubicBezTo>
                  <a:pt x="16799" y="8547"/>
                  <a:pt x="16776" y="8613"/>
                  <a:pt x="16718" y="8706"/>
                </a:cubicBezTo>
                <a:cubicBezTo>
                  <a:pt x="16676" y="8773"/>
                  <a:pt x="16651" y="8822"/>
                  <a:pt x="16594" y="8880"/>
                </a:cubicBezTo>
                <a:cubicBezTo>
                  <a:pt x="16561" y="8913"/>
                  <a:pt x="16528" y="8946"/>
                  <a:pt x="16495" y="89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Ink 7"/>
          <p:cNvSpPr/>
          <p:nvPr/>
        </p:nvSpPr>
        <p:spPr>
          <a:xfrm>
            <a:off x="6742080" y="2571840"/>
            <a:ext cx="142920" cy="393480"/>
          </a:xfrm>
          <a:custGeom>
            <a:avLst/>
            <a:gdLst/>
            <a:ahLst/>
            <a:rect l="l" t="t" r="r" b="b"/>
            <a:pathLst>
              <a:path w="397" h="1092">
                <a:moveTo>
                  <a:pt x="18802" y="7144"/>
                </a:moveTo>
                <a:cubicBezTo>
                  <a:pt x="18835" y="7177"/>
                  <a:pt x="18868" y="7210"/>
                  <a:pt x="18901" y="7243"/>
                </a:cubicBezTo>
                <a:cubicBezTo>
                  <a:pt x="18941" y="7283"/>
                  <a:pt x="18994" y="7328"/>
                  <a:pt x="19025" y="7367"/>
                </a:cubicBezTo>
                <a:cubicBezTo>
                  <a:pt x="19071" y="7425"/>
                  <a:pt x="19083" y="7499"/>
                  <a:pt x="19100" y="7565"/>
                </a:cubicBezTo>
                <a:cubicBezTo>
                  <a:pt x="19122" y="7653"/>
                  <a:pt x="19124" y="7722"/>
                  <a:pt x="19124" y="7813"/>
                </a:cubicBezTo>
                <a:cubicBezTo>
                  <a:pt x="19124" y="7898"/>
                  <a:pt x="19083" y="8021"/>
                  <a:pt x="19025" y="8086"/>
                </a:cubicBezTo>
                <a:cubicBezTo>
                  <a:pt x="18987" y="8129"/>
                  <a:pt x="18929" y="8178"/>
                  <a:pt x="18876" y="8210"/>
                </a:cubicBezTo>
                <a:cubicBezTo>
                  <a:pt x="18843" y="8230"/>
                  <a:pt x="18706" y="8235"/>
                  <a:pt x="18752" y="82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Ink 8"/>
          <p:cNvSpPr/>
          <p:nvPr/>
        </p:nvSpPr>
        <p:spPr>
          <a:xfrm>
            <a:off x="768240" y="3571920"/>
            <a:ext cx="241560" cy="455400"/>
          </a:xfrm>
          <a:custGeom>
            <a:avLst/>
            <a:gdLst/>
            <a:ahLst/>
            <a:rect l="l" t="t" r="r" b="b"/>
            <a:pathLst>
              <a:path w="671" h="1266">
                <a:moveTo>
                  <a:pt x="2183" y="10120"/>
                </a:moveTo>
                <a:cubicBezTo>
                  <a:pt x="2183" y="10178"/>
                  <a:pt x="2186" y="10199"/>
                  <a:pt x="2158" y="10244"/>
                </a:cubicBezTo>
                <a:cubicBezTo>
                  <a:pt x="2167" y="10185"/>
                  <a:pt x="2181" y="10147"/>
                  <a:pt x="2208" y="10096"/>
                </a:cubicBezTo>
                <a:cubicBezTo>
                  <a:pt x="2236" y="10043"/>
                  <a:pt x="2265" y="10012"/>
                  <a:pt x="2307" y="9971"/>
                </a:cubicBezTo>
                <a:cubicBezTo>
                  <a:pt x="2348" y="9931"/>
                  <a:pt x="2421" y="9899"/>
                  <a:pt x="2480" y="9922"/>
                </a:cubicBezTo>
                <a:cubicBezTo>
                  <a:pt x="2515" y="9935"/>
                  <a:pt x="2572" y="10013"/>
                  <a:pt x="2580" y="10046"/>
                </a:cubicBezTo>
                <a:cubicBezTo>
                  <a:pt x="2599" y="10128"/>
                  <a:pt x="2604" y="10206"/>
                  <a:pt x="2604" y="10294"/>
                </a:cubicBezTo>
                <a:cubicBezTo>
                  <a:pt x="2604" y="10420"/>
                  <a:pt x="2613" y="10543"/>
                  <a:pt x="2580" y="10666"/>
                </a:cubicBezTo>
                <a:cubicBezTo>
                  <a:pt x="2555" y="10759"/>
                  <a:pt x="2500" y="10830"/>
                  <a:pt x="2456" y="10914"/>
                </a:cubicBezTo>
                <a:cubicBezTo>
                  <a:pt x="2422" y="10980"/>
                  <a:pt x="2377" y="11007"/>
                  <a:pt x="2307" y="11013"/>
                </a:cubicBezTo>
                <a:cubicBezTo>
                  <a:pt x="2252" y="11018"/>
                  <a:pt x="2194" y="11014"/>
                  <a:pt x="2158" y="10964"/>
                </a:cubicBezTo>
                <a:cubicBezTo>
                  <a:pt x="2110" y="10897"/>
                  <a:pt x="2127" y="10801"/>
                  <a:pt x="2158" y="10740"/>
                </a:cubicBezTo>
                <a:cubicBezTo>
                  <a:pt x="2206" y="10646"/>
                  <a:pt x="2235" y="10676"/>
                  <a:pt x="2307" y="10691"/>
                </a:cubicBezTo>
                <a:cubicBezTo>
                  <a:pt x="2402" y="10710"/>
                  <a:pt x="2424" y="10772"/>
                  <a:pt x="2480" y="10864"/>
                </a:cubicBezTo>
                <a:cubicBezTo>
                  <a:pt x="2517" y="10925"/>
                  <a:pt x="2525" y="11018"/>
                  <a:pt x="2530" y="11088"/>
                </a:cubicBezTo>
                <a:cubicBezTo>
                  <a:pt x="2530" y="11096"/>
                  <a:pt x="2530" y="11104"/>
                  <a:pt x="2530" y="11112"/>
                </a:cubicBezTo>
              </a:path>
              <a:path w="671" h="1266">
                <a:moveTo>
                  <a:pt x="2803" y="11013"/>
                </a:moveTo>
                <a:cubicBezTo>
                  <a:pt x="2803" y="11088"/>
                  <a:pt x="2832" y="11167"/>
                  <a:pt x="2753" y="111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Ink 9"/>
          <p:cNvSpPr/>
          <p:nvPr/>
        </p:nvSpPr>
        <p:spPr>
          <a:xfrm>
            <a:off x="1125360" y="3554280"/>
            <a:ext cx="938520" cy="561960"/>
          </a:xfrm>
          <a:custGeom>
            <a:avLst/>
            <a:gdLst/>
            <a:ahLst/>
            <a:rect l="l" t="t" r="r" b="b"/>
            <a:pathLst>
              <a:path w="2606" h="1564">
                <a:moveTo>
                  <a:pt x="3225" y="10195"/>
                </a:moveTo>
                <a:cubicBezTo>
                  <a:pt x="3241" y="10259"/>
                  <a:pt x="3229" y="10351"/>
                  <a:pt x="3200" y="10418"/>
                </a:cubicBezTo>
                <a:cubicBezTo>
                  <a:pt x="3180" y="10464"/>
                  <a:pt x="3106" y="10535"/>
                  <a:pt x="3125" y="10592"/>
                </a:cubicBezTo>
                <a:cubicBezTo>
                  <a:pt x="3142" y="10643"/>
                  <a:pt x="3284" y="10616"/>
                  <a:pt x="3324" y="10616"/>
                </a:cubicBezTo>
                <a:cubicBezTo>
                  <a:pt x="3375" y="10616"/>
                  <a:pt x="3393" y="10615"/>
                  <a:pt x="3423" y="10592"/>
                </a:cubicBezTo>
              </a:path>
              <a:path w="2606" h="1564">
                <a:moveTo>
                  <a:pt x="3473" y="9971"/>
                </a:moveTo>
                <a:cubicBezTo>
                  <a:pt x="3473" y="10078"/>
                  <a:pt x="3459" y="10167"/>
                  <a:pt x="3448" y="10269"/>
                </a:cubicBezTo>
                <a:cubicBezTo>
                  <a:pt x="3437" y="10370"/>
                  <a:pt x="3423" y="10463"/>
                  <a:pt x="3423" y="10567"/>
                </a:cubicBezTo>
                <a:cubicBezTo>
                  <a:pt x="3423" y="10663"/>
                  <a:pt x="3403" y="10747"/>
                  <a:pt x="3398" y="10840"/>
                </a:cubicBezTo>
                <a:cubicBezTo>
                  <a:pt x="3395" y="10897"/>
                  <a:pt x="3398" y="10956"/>
                  <a:pt x="3398" y="11013"/>
                </a:cubicBezTo>
              </a:path>
              <a:path w="2606" h="1564">
                <a:moveTo>
                  <a:pt x="3696" y="11088"/>
                </a:moveTo>
                <a:cubicBezTo>
                  <a:pt x="3677" y="11180"/>
                  <a:pt x="3651" y="11271"/>
                  <a:pt x="3646" y="11361"/>
                </a:cubicBezTo>
                <a:cubicBezTo>
                  <a:pt x="3646" y="11402"/>
                  <a:pt x="3646" y="11426"/>
                  <a:pt x="3646" y="11385"/>
                </a:cubicBezTo>
              </a:path>
              <a:path w="2606" h="1564">
                <a:moveTo>
                  <a:pt x="4167" y="10220"/>
                </a:moveTo>
                <a:cubicBezTo>
                  <a:pt x="4167" y="10321"/>
                  <a:pt x="4151" y="10373"/>
                  <a:pt x="4118" y="10468"/>
                </a:cubicBezTo>
                <a:cubicBezTo>
                  <a:pt x="4083" y="10570"/>
                  <a:pt x="4068" y="10630"/>
                  <a:pt x="4068" y="10740"/>
                </a:cubicBezTo>
                <a:cubicBezTo>
                  <a:pt x="4068" y="10822"/>
                  <a:pt x="4087" y="10877"/>
                  <a:pt x="4142" y="10939"/>
                </a:cubicBezTo>
                <a:cubicBezTo>
                  <a:pt x="4171" y="10972"/>
                  <a:pt x="4273" y="10981"/>
                  <a:pt x="4316" y="10964"/>
                </a:cubicBezTo>
                <a:cubicBezTo>
                  <a:pt x="4380" y="10939"/>
                  <a:pt x="4432" y="10873"/>
                  <a:pt x="4465" y="10815"/>
                </a:cubicBezTo>
                <a:cubicBezTo>
                  <a:pt x="4501" y="10750"/>
                  <a:pt x="4540" y="10678"/>
                  <a:pt x="4490" y="10616"/>
                </a:cubicBezTo>
                <a:cubicBezTo>
                  <a:pt x="4439" y="10552"/>
                  <a:pt x="4354" y="10615"/>
                  <a:pt x="4316" y="10666"/>
                </a:cubicBezTo>
                <a:cubicBezTo>
                  <a:pt x="4281" y="10714"/>
                  <a:pt x="4269" y="10807"/>
                  <a:pt x="4266" y="10864"/>
                </a:cubicBezTo>
                <a:cubicBezTo>
                  <a:pt x="4261" y="10949"/>
                  <a:pt x="4264" y="10998"/>
                  <a:pt x="4316" y="11063"/>
                </a:cubicBezTo>
              </a:path>
              <a:path w="2606" h="1564">
                <a:moveTo>
                  <a:pt x="4688" y="10964"/>
                </a:moveTo>
                <a:cubicBezTo>
                  <a:pt x="4688" y="11085"/>
                  <a:pt x="4681" y="11175"/>
                  <a:pt x="4663" y="11286"/>
                </a:cubicBezTo>
                <a:cubicBezTo>
                  <a:pt x="4653" y="11346"/>
                  <a:pt x="4623" y="11471"/>
                  <a:pt x="4688" y="11385"/>
                </a:cubicBezTo>
              </a:path>
              <a:path w="2606" h="1564">
                <a:moveTo>
                  <a:pt x="5283" y="10368"/>
                </a:moveTo>
                <a:cubicBezTo>
                  <a:pt x="5274" y="10270"/>
                  <a:pt x="5269" y="10246"/>
                  <a:pt x="5184" y="10195"/>
                </a:cubicBezTo>
                <a:cubicBezTo>
                  <a:pt x="5120" y="10157"/>
                  <a:pt x="5017" y="10139"/>
                  <a:pt x="4986" y="10220"/>
                </a:cubicBezTo>
                <a:cubicBezTo>
                  <a:pt x="4958" y="10293"/>
                  <a:pt x="5050" y="10370"/>
                  <a:pt x="5085" y="10418"/>
                </a:cubicBezTo>
                <a:cubicBezTo>
                  <a:pt x="5163" y="10522"/>
                  <a:pt x="5219" y="10618"/>
                  <a:pt x="5259" y="10740"/>
                </a:cubicBezTo>
                <a:cubicBezTo>
                  <a:pt x="5286" y="10822"/>
                  <a:pt x="5327" y="10866"/>
                  <a:pt x="5283" y="10939"/>
                </a:cubicBezTo>
                <a:cubicBezTo>
                  <a:pt x="5185" y="10927"/>
                  <a:pt x="5178" y="10902"/>
                  <a:pt x="5135" y="10815"/>
                </a:cubicBezTo>
                <a:cubicBezTo>
                  <a:pt x="5102" y="10749"/>
                  <a:pt x="5110" y="10689"/>
                  <a:pt x="5110" y="10616"/>
                </a:cubicBezTo>
                <a:cubicBezTo>
                  <a:pt x="5110" y="10513"/>
                  <a:pt x="5148" y="10487"/>
                  <a:pt x="5209" y="10418"/>
                </a:cubicBezTo>
                <a:cubicBezTo>
                  <a:pt x="5253" y="10368"/>
                  <a:pt x="5322" y="10284"/>
                  <a:pt x="5383" y="10269"/>
                </a:cubicBezTo>
              </a:path>
              <a:path w="2606" h="1564">
                <a:moveTo>
                  <a:pt x="5631" y="10939"/>
                </a:moveTo>
                <a:cubicBezTo>
                  <a:pt x="5655" y="10964"/>
                  <a:pt x="5663" y="10972"/>
                  <a:pt x="5680" y="10939"/>
                </a:cubicBezTo>
              </a:path>
              <a:path w="2606" h="1564">
                <a:moveTo>
                  <a:pt x="4415" y="10071"/>
                </a:moveTo>
                <a:cubicBezTo>
                  <a:pt x="4390" y="9996"/>
                  <a:pt x="4348" y="10009"/>
                  <a:pt x="4266" y="10046"/>
                </a:cubicBezTo>
                <a:cubicBezTo>
                  <a:pt x="4209" y="10072"/>
                  <a:pt x="4111" y="10133"/>
                  <a:pt x="4093" y="10195"/>
                </a:cubicBezTo>
                <a:cubicBezTo>
                  <a:pt x="4079" y="10241"/>
                  <a:pt x="4061" y="10308"/>
                  <a:pt x="4118" y="10344"/>
                </a:cubicBezTo>
                <a:cubicBezTo>
                  <a:pt x="4200" y="10395"/>
                  <a:pt x="4263" y="10357"/>
                  <a:pt x="4341" y="10344"/>
                </a:cubicBezTo>
                <a:cubicBezTo>
                  <a:pt x="4433" y="10329"/>
                  <a:pt x="4467" y="10306"/>
                  <a:pt x="4514" y="10220"/>
                </a:cubicBezTo>
                <a:cubicBezTo>
                  <a:pt x="4549" y="10157"/>
                  <a:pt x="4588" y="10107"/>
                  <a:pt x="4539" y="10046"/>
                </a:cubicBezTo>
                <a:cubicBezTo>
                  <a:pt x="4482" y="9975"/>
                  <a:pt x="4374" y="9959"/>
                  <a:pt x="4291" y="9971"/>
                </a:cubicBezTo>
                <a:cubicBezTo>
                  <a:pt x="4220" y="9982"/>
                  <a:pt x="4134" y="10045"/>
                  <a:pt x="4093" y="10096"/>
                </a:cubicBezTo>
                <a:cubicBezTo>
                  <a:pt x="4065" y="10131"/>
                  <a:pt x="4043" y="10275"/>
                  <a:pt x="4068" y="10319"/>
                </a:cubicBezTo>
                <a:cubicBezTo>
                  <a:pt x="4085" y="10335"/>
                  <a:pt x="4101" y="10352"/>
                  <a:pt x="4118" y="10368"/>
                </a:cubicBezTo>
              </a:path>
              <a:path w="2606" h="1564">
                <a:moveTo>
                  <a:pt x="4316" y="10468"/>
                </a:moveTo>
                <a:cubicBezTo>
                  <a:pt x="4403" y="10535"/>
                  <a:pt x="4278" y="10553"/>
                  <a:pt x="4192" y="10567"/>
                </a:cubicBezTo>
                <a:cubicBezTo>
                  <a:pt x="4084" y="10584"/>
                  <a:pt x="4049" y="10586"/>
                  <a:pt x="3969" y="10666"/>
                </a:cubicBezTo>
                <a:cubicBezTo>
                  <a:pt x="3961" y="10674"/>
                  <a:pt x="3952" y="10683"/>
                  <a:pt x="3944" y="10691"/>
                </a:cubicBezTo>
                <a:cubicBezTo>
                  <a:pt x="4003" y="10808"/>
                  <a:pt x="4021" y="10787"/>
                  <a:pt x="4142" y="10815"/>
                </a:cubicBezTo>
                <a:cubicBezTo>
                  <a:pt x="4225" y="10834"/>
                  <a:pt x="4358" y="10839"/>
                  <a:pt x="4440" y="10790"/>
                </a:cubicBezTo>
                <a:cubicBezTo>
                  <a:pt x="4485" y="10763"/>
                  <a:pt x="4591" y="10652"/>
                  <a:pt x="4589" y="10592"/>
                </a:cubicBezTo>
                <a:cubicBezTo>
                  <a:pt x="4585" y="10484"/>
                  <a:pt x="4516" y="10402"/>
                  <a:pt x="4415" y="10368"/>
                </a:cubicBezTo>
                <a:cubicBezTo>
                  <a:pt x="4334" y="10341"/>
                  <a:pt x="4248" y="10337"/>
                  <a:pt x="4167" y="10368"/>
                </a:cubicBezTo>
                <a:cubicBezTo>
                  <a:pt x="4097" y="10395"/>
                  <a:pt x="4015" y="10439"/>
                  <a:pt x="3994" y="10517"/>
                </a:cubicBezTo>
                <a:cubicBezTo>
                  <a:pt x="3975" y="10586"/>
                  <a:pt x="4045" y="10677"/>
                  <a:pt x="4093" y="10716"/>
                </a:cubicBezTo>
                <a:cubicBezTo>
                  <a:pt x="4178" y="10785"/>
                  <a:pt x="4260" y="10810"/>
                  <a:pt x="4366" y="10815"/>
                </a:cubicBezTo>
                <a:cubicBezTo>
                  <a:pt x="4446" y="10819"/>
                  <a:pt x="4501" y="10781"/>
                  <a:pt x="4539" y="10716"/>
                </a:cubicBezTo>
                <a:cubicBezTo>
                  <a:pt x="4577" y="10652"/>
                  <a:pt x="4605" y="10558"/>
                  <a:pt x="4564" y="10492"/>
                </a:cubicBezTo>
                <a:cubicBezTo>
                  <a:pt x="4524" y="10428"/>
                  <a:pt x="4437" y="10382"/>
                  <a:pt x="4366" y="10368"/>
                </a:cubicBezTo>
                <a:cubicBezTo>
                  <a:pt x="4312" y="10358"/>
                  <a:pt x="4160" y="10407"/>
                  <a:pt x="4118" y="10443"/>
                </a:cubicBezTo>
                <a:cubicBezTo>
                  <a:pt x="4093" y="10492"/>
                  <a:pt x="4084" y="10509"/>
                  <a:pt x="4068" y="10542"/>
                </a:cubicBezTo>
                <a:cubicBezTo>
                  <a:pt x="4108" y="10630"/>
                  <a:pt x="4147" y="10699"/>
                  <a:pt x="4242" y="10740"/>
                </a:cubicBezTo>
                <a:cubicBezTo>
                  <a:pt x="4297" y="10764"/>
                  <a:pt x="4430" y="10827"/>
                  <a:pt x="4490" y="10790"/>
                </a:cubicBezTo>
                <a:cubicBezTo>
                  <a:pt x="4548" y="10732"/>
                  <a:pt x="4556" y="10724"/>
                  <a:pt x="4589" y="10691"/>
                </a:cubicBezTo>
                <a:cubicBezTo>
                  <a:pt x="4589" y="10624"/>
                  <a:pt x="4598" y="10563"/>
                  <a:pt x="4539" y="10517"/>
                </a:cubicBezTo>
                <a:cubicBezTo>
                  <a:pt x="4464" y="10458"/>
                  <a:pt x="4380" y="10432"/>
                  <a:pt x="4291" y="10418"/>
                </a:cubicBezTo>
                <a:cubicBezTo>
                  <a:pt x="4237" y="10409"/>
                  <a:pt x="4208" y="10418"/>
                  <a:pt x="4167" y="10443"/>
                </a:cubicBezTo>
              </a:path>
              <a:path w="2606" h="1564">
                <a:moveTo>
                  <a:pt x="4986" y="9971"/>
                </a:moveTo>
                <a:cubicBezTo>
                  <a:pt x="5002" y="10084"/>
                  <a:pt x="4986" y="10174"/>
                  <a:pt x="4986" y="10294"/>
                </a:cubicBezTo>
                <a:cubicBezTo>
                  <a:pt x="4986" y="10418"/>
                  <a:pt x="4982" y="10517"/>
                  <a:pt x="4986" y="10641"/>
                </a:cubicBezTo>
                <a:cubicBezTo>
                  <a:pt x="4989" y="10725"/>
                  <a:pt x="4933" y="10920"/>
                  <a:pt x="5011" y="10889"/>
                </a:cubicBezTo>
                <a:cubicBezTo>
                  <a:pt x="5019" y="10873"/>
                  <a:pt x="5027" y="10856"/>
                  <a:pt x="5035" y="10840"/>
                </a:cubicBezTo>
              </a:path>
              <a:path w="2606" h="1564">
                <a:moveTo>
                  <a:pt x="5358" y="9947"/>
                </a:moveTo>
                <a:cubicBezTo>
                  <a:pt x="5327" y="10063"/>
                  <a:pt x="5287" y="10188"/>
                  <a:pt x="5234" y="10294"/>
                </a:cubicBezTo>
                <a:cubicBezTo>
                  <a:pt x="5181" y="10399"/>
                  <a:pt x="5153" y="10475"/>
                  <a:pt x="5184" y="10592"/>
                </a:cubicBezTo>
                <a:cubicBezTo>
                  <a:pt x="5206" y="10676"/>
                  <a:pt x="5235" y="10747"/>
                  <a:pt x="5308" y="10790"/>
                </a:cubicBezTo>
                <a:cubicBezTo>
                  <a:pt x="5366" y="10824"/>
                  <a:pt x="5449" y="10832"/>
                  <a:pt x="5507" y="10790"/>
                </a:cubicBezTo>
                <a:cubicBezTo>
                  <a:pt x="5599" y="10723"/>
                  <a:pt x="5631" y="10603"/>
                  <a:pt x="5606" y="10492"/>
                </a:cubicBezTo>
                <a:cubicBezTo>
                  <a:pt x="5596" y="10446"/>
                  <a:pt x="5491" y="10420"/>
                  <a:pt x="5457" y="10418"/>
                </a:cubicBezTo>
                <a:cubicBezTo>
                  <a:pt x="5384" y="10414"/>
                  <a:pt x="5309" y="10474"/>
                  <a:pt x="5283" y="10542"/>
                </a:cubicBezTo>
                <a:cubicBezTo>
                  <a:pt x="5259" y="10603"/>
                  <a:pt x="5285" y="10711"/>
                  <a:pt x="5308" y="10765"/>
                </a:cubicBezTo>
                <a:cubicBezTo>
                  <a:pt x="5333" y="10823"/>
                  <a:pt x="5350" y="10828"/>
                  <a:pt x="5407" y="10840"/>
                </a:cubicBezTo>
              </a:path>
              <a:path w="2606" h="1564">
                <a:moveTo>
                  <a:pt x="5482" y="9897"/>
                </a:moveTo>
                <a:cubicBezTo>
                  <a:pt x="5387" y="9956"/>
                  <a:pt x="5361" y="10003"/>
                  <a:pt x="5308" y="10096"/>
                </a:cubicBezTo>
                <a:cubicBezTo>
                  <a:pt x="5248" y="10201"/>
                  <a:pt x="5215" y="10297"/>
                  <a:pt x="5209" y="10418"/>
                </a:cubicBezTo>
                <a:cubicBezTo>
                  <a:pt x="5205" y="10504"/>
                  <a:pt x="5206" y="10593"/>
                  <a:pt x="5259" y="10666"/>
                </a:cubicBezTo>
                <a:cubicBezTo>
                  <a:pt x="5286" y="10704"/>
                  <a:pt x="5406" y="10792"/>
                  <a:pt x="5457" y="10790"/>
                </a:cubicBezTo>
                <a:cubicBezTo>
                  <a:pt x="5529" y="10787"/>
                  <a:pt x="5615" y="10723"/>
                  <a:pt x="5655" y="10666"/>
                </a:cubicBezTo>
                <a:cubicBezTo>
                  <a:pt x="5679" y="10631"/>
                  <a:pt x="5741" y="10511"/>
                  <a:pt x="5705" y="10468"/>
                </a:cubicBezTo>
                <a:cubicBezTo>
                  <a:pt x="5640" y="10390"/>
                  <a:pt x="5583" y="10384"/>
                  <a:pt x="5507" y="10393"/>
                </a:cubicBezTo>
                <a:cubicBezTo>
                  <a:pt x="5420" y="10403"/>
                  <a:pt x="5356" y="10468"/>
                  <a:pt x="5308" y="10542"/>
                </a:cubicBezTo>
                <a:cubicBezTo>
                  <a:pt x="5273" y="10596"/>
                  <a:pt x="5267" y="10704"/>
                  <a:pt x="5283" y="10765"/>
                </a:cubicBezTo>
                <a:cubicBezTo>
                  <a:pt x="5308" y="10815"/>
                  <a:pt x="5316" y="10831"/>
                  <a:pt x="5333" y="10864"/>
                </a:cubicBezTo>
              </a:path>
              <a:path w="2606" h="1564">
                <a:moveTo>
                  <a:pt x="5060" y="9872"/>
                </a:moveTo>
                <a:cubicBezTo>
                  <a:pt x="5019" y="9964"/>
                  <a:pt x="5010" y="10049"/>
                  <a:pt x="4986" y="10145"/>
                </a:cubicBezTo>
                <a:cubicBezTo>
                  <a:pt x="4955" y="10269"/>
                  <a:pt x="4936" y="10364"/>
                  <a:pt x="4936" y="10492"/>
                </a:cubicBezTo>
                <a:cubicBezTo>
                  <a:pt x="4936" y="10581"/>
                  <a:pt x="4925" y="10660"/>
                  <a:pt x="4961" y="10740"/>
                </a:cubicBezTo>
                <a:cubicBezTo>
                  <a:pt x="4991" y="10807"/>
                  <a:pt x="4985" y="10828"/>
                  <a:pt x="5035" y="10815"/>
                </a:cubicBezTo>
              </a:path>
              <a:path w="2606" h="1564">
                <a:moveTo>
                  <a:pt x="5358" y="9897"/>
                </a:moveTo>
                <a:cubicBezTo>
                  <a:pt x="5347" y="9971"/>
                  <a:pt x="5297" y="10051"/>
                  <a:pt x="5259" y="10120"/>
                </a:cubicBezTo>
                <a:cubicBezTo>
                  <a:pt x="5196" y="10233"/>
                  <a:pt x="5184" y="10288"/>
                  <a:pt x="5184" y="10418"/>
                </a:cubicBezTo>
                <a:cubicBezTo>
                  <a:pt x="5184" y="10503"/>
                  <a:pt x="5205" y="10596"/>
                  <a:pt x="5259" y="10666"/>
                </a:cubicBezTo>
                <a:cubicBezTo>
                  <a:pt x="5290" y="10707"/>
                  <a:pt x="5376" y="10781"/>
                  <a:pt x="5432" y="10765"/>
                </a:cubicBezTo>
                <a:cubicBezTo>
                  <a:pt x="5553" y="10731"/>
                  <a:pt x="5605" y="10688"/>
                  <a:pt x="5631" y="10567"/>
                </a:cubicBezTo>
                <a:cubicBezTo>
                  <a:pt x="5643" y="10512"/>
                  <a:pt x="5639" y="10434"/>
                  <a:pt x="5606" y="10393"/>
                </a:cubicBezTo>
                <a:cubicBezTo>
                  <a:pt x="5558" y="10333"/>
                  <a:pt x="5525" y="10336"/>
                  <a:pt x="5457" y="10368"/>
                </a:cubicBezTo>
                <a:cubicBezTo>
                  <a:pt x="5348" y="10418"/>
                  <a:pt x="5282" y="10470"/>
                  <a:pt x="5259" y="10592"/>
                </a:cubicBezTo>
                <a:cubicBezTo>
                  <a:pt x="5242" y="10683"/>
                  <a:pt x="5279" y="10772"/>
                  <a:pt x="5333" y="10840"/>
                </a:cubicBezTo>
              </a:path>
              <a:path w="2606" h="1564">
                <a:moveTo>
                  <a:pt x="5432" y="9897"/>
                </a:moveTo>
                <a:cubicBezTo>
                  <a:pt x="5367" y="9935"/>
                  <a:pt x="5314" y="9973"/>
                  <a:pt x="5283" y="10046"/>
                </a:cubicBezTo>
                <a:cubicBezTo>
                  <a:pt x="5231" y="10166"/>
                  <a:pt x="5209" y="10234"/>
                  <a:pt x="5209" y="10368"/>
                </a:cubicBezTo>
                <a:cubicBezTo>
                  <a:pt x="5209" y="10493"/>
                  <a:pt x="5225" y="10578"/>
                  <a:pt x="5308" y="10666"/>
                </a:cubicBezTo>
                <a:cubicBezTo>
                  <a:pt x="5372" y="10734"/>
                  <a:pt x="5412" y="10785"/>
                  <a:pt x="5507" y="10790"/>
                </a:cubicBezTo>
                <a:cubicBezTo>
                  <a:pt x="5585" y="10794"/>
                  <a:pt x="5610" y="10742"/>
                  <a:pt x="5655" y="10691"/>
                </a:cubicBezTo>
                <a:cubicBezTo>
                  <a:pt x="5698" y="10643"/>
                  <a:pt x="5743" y="10564"/>
                  <a:pt x="5730" y="10492"/>
                </a:cubicBezTo>
                <a:cubicBezTo>
                  <a:pt x="5724" y="10456"/>
                  <a:pt x="5678" y="10357"/>
                  <a:pt x="5631" y="10344"/>
                </a:cubicBezTo>
                <a:cubicBezTo>
                  <a:pt x="5526" y="10315"/>
                  <a:pt x="5399" y="10407"/>
                  <a:pt x="5333" y="10468"/>
                </a:cubicBezTo>
                <a:cubicBezTo>
                  <a:pt x="5283" y="10514"/>
                  <a:pt x="5308" y="10632"/>
                  <a:pt x="5308" y="10691"/>
                </a:cubicBezTo>
                <a:cubicBezTo>
                  <a:pt x="5308" y="10707"/>
                  <a:pt x="5308" y="10724"/>
                  <a:pt x="5308" y="107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Ink 10"/>
          <p:cNvSpPr/>
          <p:nvPr/>
        </p:nvSpPr>
        <p:spPr>
          <a:xfrm>
            <a:off x="2197080" y="3929040"/>
            <a:ext cx="17640" cy="9720"/>
          </a:xfrm>
          <a:custGeom>
            <a:avLst/>
            <a:gdLst/>
            <a:ahLst/>
            <a:rect l="l" t="t" r="r" b="b"/>
            <a:pathLst>
              <a:path w="51" h="26">
                <a:moveTo>
                  <a:pt x="6102" y="10914"/>
                </a:moveTo>
                <a:cubicBezTo>
                  <a:pt x="6125" y="10937"/>
                  <a:pt x="6129" y="10945"/>
                  <a:pt x="6152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Ink 11"/>
          <p:cNvSpPr/>
          <p:nvPr/>
        </p:nvSpPr>
        <p:spPr>
          <a:xfrm>
            <a:off x="2394000" y="3902040"/>
            <a:ext cx="123840" cy="54000"/>
          </a:xfrm>
          <a:custGeom>
            <a:avLst/>
            <a:gdLst/>
            <a:ahLst/>
            <a:rect l="l" t="t" r="r" b="b"/>
            <a:pathLst>
              <a:path w="348" h="149">
                <a:moveTo>
                  <a:pt x="6648" y="10988"/>
                </a:moveTo>
                <a:cubicBezTo>
                  <a:pt x="6664" y="10980"/>
                  <a:pt x="6681" y="10972"/>
                  <a:pt x="6697" y="10964"/>
                </a:cubicBezTo>
              </a:path>
              <a:path w="348" h="149">
                <a:moveTo>
                  <a:pt x="6995" y="10864"/>
                </a:moveTo>
                <a:cubicBezTo>
                  <a:pt x="6987" y="10856"/>
                  <a:pt x="6978" y="10848"/>
                  <a:pt x="6970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Ink 12"/>
          <p:cNvSpPr/>
          <p:nvPr/>
        </p:nvSpPr>
        <p:spPr>
          <a:xfrm>
            <a:off x="1204920" y="4241880"/>
            <a:ext cx="1144440" cy="598320"/>
          </a:xfrm>
          <a:custGeom>
            <a:avLst/>
            <a:gdLst/>
            <a:ahLst/>
            <a:rect l="l" t="t" r="r" b="b"/>
            <a:pathLst>
              <a:path w="3176" h="1663">
                <a:moveTo>
                  <a:pt x="4068" y="12551"/>
                </a:moveTo>
                <a:cubicBezTo>
                  <a:pt x="4068" y="12633"/>
                  <a:pt x="4057" y="12665"/>
                  <a:pt x="4093" y="12725"/>
                </a:cubicBezTo>
                <a:cubicBezTo>
                  <a:pt x="4093" y="12611"/>
                  <a:pt x="4081" y="12508"/>
                  <a:pt x="4068" y="12402"/>
                </a:cubicBezTo>
                <a:cubicBezTo>
                  <a:pt x="4057" y="12316"/>
                  <a:pt x="4052" y="12235"/>
                  <a:pt x="4018" y="12154"/>
                </a:cubicBezTo>
                <a:cubicBezTo>
                  <a:pt x="3986" y="12078"/>
                  <a:pt x="3971" y="12014"/>
                  <a:pt x="3919" y="11956"/>
                </a:cubicBezTo>
                <a:cubicBezTo>
                  <a:pt x="3901" y="11935"/>
                  <a:pt x="3828" y="11856"/>
                  <a:pt x="3795" y="11857"/>
                </a:cubicBezTo>
                <a:cubicBezTo>
                  <a:pt x="3731" y="11860"/>
                  <a:pt x="3666" y="11936"/>
                  <a:pt x="3621" y="11981"/>
                </a:cubicBezTo>
                <a:cubicBezTo>
                  <a:pt x="3556" y="12046"/>
                  <a:pt x="3541" y="12102"/>
                  <a:pt x="3497" y="12179"/>
                </a:cubicBezTo>
                <a:cubicBezTo>
                  <a:pt x="3425" y="12303"/>
                  <a:pt x="3368" y="12456"/>
                  <a:pt x="3349" y="12601"/>
                </a:cubicBezTo>
                <a:cubicBezTo>
                  <a:pt x="3321" y="12814"/>
                  <a:pt x="3373" y="12948"/>
                  <a:pt x="3448" y="13146"/>
                </a:cubicBezTo>
                <a:cubicBezTo>
                  <a:pt x="3479" y="13229"/>
                  <a:pt x="3551" y="13295"/>
                  <a:pt x="3646" y="13320"/>
                </a:cubicBezTo>
                <a:cubicBezTo>
                  <a:pt x="3697" y="13333"/>
                  <a:pt x="3829" y="13336"/>
                  <a:pt x="3870" y="13295"/>
                </a:cubicBezTo>
                <a:cubicBezTo>
                  <a:pt x="3931" y="13234"/>
                  <a:pt x="3961" y="13150"/>
                  <a:pt x="3994" y="13072"/>
                </a:cubicBezTo>
                <a:cubicBezTo>
                  <a:pt x="4033" y="12979"/>
                  <a:pt x="4018" y="12875"/>
                  <a:pt x="4018" y="12774"/>
                </a:cubicBezTo>
                <a:cubicBezTo>
                  <a:pt x="4018" y="12708"/>
                  <a:pt x="4018" y="12642"/>
                  <a:pt x="4018" y="12576"/>
                </a:cubicBezTo>
                <a:cubicBezTo>
                  <a:pt x="3998" y="12671"/>
                  <a:pt x="4032" y="12726"/>
                  <a:pt x="4043" y="12824"/>
                </a:cubicBezTo>
                <a:cubicBezTo>
                  <a:pt x="4057" y="12941"/>
                  <a:pt x="4079" y="13041"/>
                  <a:pt x="4142" y="13146"/>
                </a:cubicBezTo>
                <a:cubicBezTo>
                  <a:pt x="4166" y="13187"/>
                  <a:pt x="4210" y="13203"/>
                  <a:pt x="4242" y="13221"/>
                </a:cubicBezTo>
              </a:path>
              <a:path w="3176" h="1663">
                <a:moveTo>
                  <a:pt x="4291" y="12750"/>
                </a:moveTo>
                <a:cubicBezTo>
                  <a:pt x="4291" y="12845"/>
                  <a:pt x="4274" y="12929"/>
                  <a:pt x="4266" y="13022"/>
                </a:cubicBezTo>
                <a:cubicBezTo>
                  <a:pt x="4258" y="13116"/>
                  <a:pt x="4244" y="13267"/>
                  <a:pt x="4291" y="13345"/>
                </a:cubicBezTo>
                <a:cubicBezTo>
                  <a:pt x="4300" y="13272"/>
                  <a:pt x="4323" y="13194"/>
                  <a:pt x="4341" y="13122"/>
                </a:cubicBezTo>
                <a:cubicBezTo>
                  <a:pt x="4362" y="13039"/>
                  <a:pt x="4386" y="12960"/>
                  <a:pt x="4390" y="12874"/>
                </a:cubicBezTo>
                <a:cubicBezTo>
                  <a:pt x="4393" y="12810"/>
                  <a:pt x="4424" y="12776"/>
                  <a:pt x="4465" y="12725"/>
                </a:cubicBezTo>
                <a:cubicBezTo>
                  <a:pt x="4512" y="12784"/>
                  <a:pt x="4521" y="12829"/>
                  <a:pt x="4539" y="12898"/>
                </a:cubicBezTo>
                <a:cubicBezTo>
                  <a:pt x="4562" y="12985"/>
                  <a:pt x="4575" y="13063"/>
                  <a:pt x="4614" y="13146"/>
                </a:cubicBezTo>
                <a:cubicBezTo>
                  <a:pt x="4643" y="13209"/>
                  <a:pt x="4636" y="13286"/>
                  <a:pt x="4663" y="13345"/>
                </a:cubicBezTo>
                <a:cubicBezTo>
                  <a:pt x="4701" y="13383"/>
                  <a:pt x="4724" y="13381"/>
                  <a:pt x="4762" y="13320"/>
                </a:cubicBezTo>
              </a:path>
              <a:path w="3176" h="1663">
                <a:moveTo>
                  <a:pt x="4911" y="12502"/>
                </a:moveTo>
                <a:cubicBezTo>
                  <a:pt x="4988" y="12481"/>
                  <a:pt x="5058" y="12462"/>
                  <a:pt x="5135" y="12452"/>
                </a:cubicBezTo>
              </a:path>
              <a:path w="3176" h="1663">
                <a:moveTo>
                  <a:pt x="4961" y="12650"/>
                </a:moveTo>
                <a:cubicBezTo>
                  <a:pt x="5023" y="12684"/>
                  <a:pt x="5130" y="12748"/>
                  <a:pt x="5209" y="12725"/>
                </a:cubicBezTo>
                <a:cubicBezTo>
                  <a:pt x="5217" y="12717"/>
                  <a:pt x="5226" y="12708"/>
                  <a:pt x="5234" y="12700"/>
                </a:cubicBezTo>
              </a:path>
              <a:path w="3176" h="1663">
                <a:moveTo>
                  <a:pt x="5631" y="11931"/>
                </a:moveTo>
                <a:cubicBezTo>
                  <a:pt x="5604" y="11964"/>
                  <a:pt x="5583" y="11997"/>
                  <a:pt x="5556" y="12030"/>
                </a:cubicBezTo>
                <a:cubicBezTo>
                  <a:pt x="5599" y="11977"/>
                  <a:pt x="5617" y="11913"/>
                  <a:pt x="5655" y="11857"/>
                </a:cubicBezTo>
                <a:cubicBezTo>
                  <a:pt x="5680" y="11820"/>
                  <a:pt x="5730" y="11765"/>
                  <a:pt x="5779" y="11782"/>
                </a:cubicBezTo>
                <a:cubicBezTo>
                  <a:pt x="5845" y="11804"/>
                  <a:pt x="5875" y="11872"/>
                  <a:pt x="5904" y="11931"/>
                </a:cubicBezTo>
                <a:cubicBezTo>
                  <a:pt x="5955" y="12035"/>
                  <a:pt x="6010" y="12138"/>
                  <a:pt x="6028" y="12254"/>
                </a:cubicBezTo>
                <a:cubicBezTo>
                  <a:pt x="6043" y="12346"/>
                  <a:pt x="6063" y="12485"/>
                  <a:pt x="6052" y="12576"/>
                </a:cubicBezTo>
                <a:cubicBezTo>
                  <a:pt x="6038" y="12691"/>
                  <a:pt x="6030" y="12811"/>
                  <a:pt x="6003" y="12923"/>
                </a:cubicBezTo>
                <a:cubicBezTo>
                  <a:pt x="5982" y="13009"/>
                  <a:pt x="5960" y="13123"/>
                  <a:pt x="5904" y="13196"/>
                </a:cubicBezTo>
                <a:cubicBezTo>
                  <a:pt x="5855" y="13260"/>
                  <a:pt x="5784" y="13340"/>
                  <a:pt x="5705" y="13345"/>
                </a:cubicBezTo>
                <a:cubicBezTo>
                  <a:pt x="5666" y="13347"/>
                  <a:pt x="5594" y="13317"/>
                  <a:pt x="5581" y="13271"/>
                </a:cubicBezTo>
                <a:cubicBezTo>
                  <a:pt x="5564" y="13212"/>
                  <a:pt x="5556" y="13164"/>
                  <a:pt x="5556" y="13097"/>
                </a:cubicBezTo>
                <a:cubicBezTo>
                  <a:pt x="5556" y="13000"/>
                  <a:pt x="5570" y="12924"/>
                  <a:pt x="5631" y="12849"/>
                </a:cubicBezTo>
                <a:cubicBezTo>
                  <a:pt x="5722" y="12900"/>
                  <a:pt x="5758" y="12930"/>
                  <a:pt x="5804" y="13022"/>
                </a:cubicBezTo>
                <a:cubicBezTo>
                  <a:pt x="5858" y="13129"/>
                  <a:pt x="5888" y="13242"/>
                  <a:pt x="5928" y="13345"/>
                </a:cubicBezTo>
                <a:cubicBezTo>
                  <a:pt x="5960" y="13427"/>
                  <a:pt x="5949" y="13476"/>
                  <a:pt x="6003" y="13370"/>
                </a:cubicBezTo>
              </a:path>
              <a:path w="3176" h="1663">
                <a:moveTo>
                  <a:pt x="6400" y="12452"/>
                </a:moveTo>
                <a:cubicBezTo>
                  <a:pt x="6378" y="12532"/>
                  <a:pt x="6362" y="12537"/>
                  <a:pt x="6400" y="12601"/>
                </a:cubicBezTo>
                <a:cubicBezTo>
                  <a:pt x="6441" y="12595"/>
                  <a:pt x="6530" y="12570"/>
                  <a:pt x="6524" y="12502"/>
                </a:cubicBezTo>
                <a:cubicBezTo>
                  <a:pt x="6520" y="12459"/>
                  <a:pt x="6450" y="12385"/>
                  <a:pt x="6400" y="12402"/>
                </a:cubicBezTo>
                <a:cubicBezTo>
                  <a:pt x="6392" y="12410"/>
                  <a:pt x="6383" y="12419"/>
                  <a:pt x="6375" y="12427"/>
                </a:cubicBezTo>
                <a:cubicBezTo>
                  <a:pt x="6337" y="12490"/>
                  <a:pt x="6350" y="12500"/>
                  <a:pt x="6400" y="12551"/>
                </a:cubicBezTo>
                <a:cubicBezTo>
                  <a:pt x="6436" y="12587"/>
                  <a:pt x="6507" y="12586"/>
                  <a:pt x="6524" y="12526"/>
                </a:cubicBezTo>
                <a:cubicBezTo>
                  <a:pt x="6547" y="12446"/>
                  <a:pt x="6524" y="12406"/>
                  <a:pt x="6449" y="12402"/>
                </a:cubicBezTo>
                <a:cubicBezTo>
                  <a:pt x="6433" y="12402"/>
                  <a:pt x="6416" y="12402"/>
                  <a:pt x="6400" y="12402"/>
                </a:cubicBezTo>
                <a:cubicBezTo>
                  <a:pt x="6370" y="12453"/>
                  <a:pt x="6370" y="12451"/>
                  <a:pt x="6400" y="12502"/>
                </a:cubicBezTo>
                <a:cubicBezTo>
                  <a:pt x="6457" y="12535"/>
                  <a:pt x="6505" y="12534"/>
                  <a:pt x="6524" y="12452"/>
                </a:cubicBezTo>
                <a:cubicBezTo>
                  <a:pt x="6541" y="12382"/>
                  <a:pt x="6473" y="12356"/>
                  <a:pt x="6424" y="12328"/>
                </a:cubicBezTo>
                <a:cubicBezTo>
                  <a:pt x="6363" y="12391"/>
                  <a:pt x="6363" y="12396"/>
                  <a:pt x="6375" y="12477"/>
                </a:cubicBezTo>
                <a:cubicBezTo>
                  <a:pt x="6375" y="12485"/>
                  <a:pt x="6375" y="12494"/>
                  <a:pt x="6375" y="125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Ink 13"/>
          <p:cNvSpPr/>
          <p:nvPr/>
        </p:nvSpPr>
        <p:spPr>
          <a:xfrm>
            <a:off x="2562120" y="3527280"/>
            <a:ext cx="1366920" cy="2536920"/>
          </a:xfrm>
          <a:custGeom>
            <a:avLst/>
            <a:gdLst/>
            <a:ahLst/>
            <a:rect l="l" t="t" r="r" b="b"/>
            <a:pathLst>
              <a:path w="3796" h="7045">
                <a:moveTo>
                  <a:pt x="7169" y="12005"/>
                </a:moveTo>
                <a:cubicBezTo>
                  <a:pt x="7169" y="12050"/>
                  <a:pt x="7172" y="12063"/>
                  <a:pt x="7144" y="12080"/>
                </a:cubicBezTo>
                <a:cubicBezTo>
                  <a:pt x="7161" y="12029"/>
                  <a:pt x="7179" y="11986"/>
                  <a:pt x="7193" y="11931"/>
                </a:cubicBezTo>
                <a:cubicBezTo>
                  <a:pt x="7202" y="11893"/>
                  <a:pt x="7227" y="11833"/>
                  <a:pt x="7268" y="11807"/>
                </a:cubicBezTo>
                <a:cubicBezTo>
                  <a:pt x="7326" y="11771"/>
                  <a:pt x="7346" y="11778"/>
                  <a:pt x="7392" y="11832"/>
                </a:cubicBezTo>
                <a:cubicBezTo>
                  <a:pt x="7435" y="11883"/>
                  <a:pt x="7461" y="11945"/>
                  <a:pt x="7491" y="12005"/>
                </a:cubicBezTo>
                <a:cubicBezTo>
                  <a:pt x="7535" y="12092"/>
                  <a:pt x="7544" y="12165"/>
                  <a:pt x="7565" y="12254"/>
                </a:cubicBezTo>
                <a:cubicBezTo>
                  <a:pt x="7599" y="12401"/>
                  <a:pt x="7590" y="12549"/>
                  <a:pt x="7590" y="12700"/>
                </a:cubicBezTo>
                <a:cubicBezTo>
                  <a:pt x="7590" y="12800"/>
                  <a:pt x="7572" y="12926"/>
                  <a:pt x="7541" y="13022"/>
                </a:cubicBezTo>
                <a:cubicBezTo>
                  <a:pt x="7518" y="13094"/>
                  <a:pt x="7483" y="13172"/>
                  <a:pt x="7466" y="13246"/>
                </a:cubicBezTo>
                <a:cubicBezTo>
                  <a:pt x="7450" y="13316"/>
                  <a:pt x="7439" y="13361"/>
                  <a:pt x="7392" y="13419"/>
                </a:cubicBezTo>
                <a:cubicBezTo>
                  <a:pt x="7369" y="13448"/>
                  <a:pt x="7308" y="13519"/>
                  <a:pt x="7268" y="13519"/>
                </a:cubicBezTo>
                <a:cubicBezTo>
                  <a:pt x="7218" y="13519"/>
                  <a:pt x="7159" y="13431"/>
                  <a:pt x="7144" y="13395"/>
                </a:cubicBezTo>
                <a:cubicBezTo>
                  <a:pt x="7109" y="13313"/>
                  <a:pt x="7140" y="13231"/>
                  <a:pt x="7144" y="13146"/>
                </a:cubicBezTo>
                <a:cubicBezTo>
                  <a:pt x="7149" y="13049"/>
                  <a:pt x="7158" y="13012"/>
                  <a:pt x="7193" y="12923"/>
                </a:cubicBezTo>
                <a:cubicBezTo>
                  <a:pt x="7201" y="12907"/>
                  <a:pt x="7210" y="12890"/>
                  <a:pt x="7218" y="12874"/>
                </a:cubicBezTo>
                <a:cubicBezTo>
                  <a:pt x="7357" y="12891"/>
                  <a:pt x="7324" y="12916"/>
                  <a:pt x="7392" y="13022"/>
                </a:cubicBezTo>
                <a:cubicBezTo>
                  <a:pt x="7424" y="13072"/>
                  <a:pt x="7459" y="13119"/>
                  <a:pt x="7491" y="13171"/>
                </a:cubicBezTo>
                <a:cubicBezTo>
                  <a:pt x="7519" y="13216"/>
                  <a:pt x="7556" y="13279"/>
                  <a:pt x="7590" y="13320"/>
                </a:cubicBezTo>
                <a:cubicBezTo>
                  <a:pt x="7664" y="13409"/>
                  <a:pt x="7765" y="13530"/>
                  <a:pt x="7863" y="13519"/>
                </a:cubicBezTo>
              </a:path>
              <a:path w="3796" h="7045">
                <a:moveTo>
                  <a:pt x="7789" y="11385"/>
                </a:moveTo>
                <a:cubicBezTo>
                  <a:pt x="7760" y="11443"/>
                  <a:pt x="7739" y="11510"/>
                  <a:pt x="7714" y="11559"/>
                </a:cubicBezTo>
                <a:cubicBezTo>
                  <a:pt x="7683" y="11621"/>
                  <a:pt x="7689" y="11681"/>
                  <a:pt x="7689" y="11757"/>
                </a:cubicBezTo>
                <a:cubicBezTo>
                  <a:pt x="7689" y="11808"/>
                  <a:pt x="7718" y="11889"/>
                  <a:pt x="7739" y="11931"/>
                </a:cubicBezTo>
                <a:cubicBezTo>
                  <a:pt x="7757" y="11967"/>
                  <a:pt x="7804" y="11997"/>
                  <a:pt x="7838" y="12005"/>
                </a:cubicBezTo>
              </a:path>
              <a:path w="3796" h="7045">
                <a:moveTo>
                  <a:pt x="7913" y="11509"/>
                </a:moveTo>
                <a:cubicBezTo>
                  <a:pt x="7913" y="11599"/>
                  <a:pt x="7924" y="11673"/>
                  <a:pt x="7938" y="11757"/>
                </a:cubicBezTo>
                <a:cubicBezTo>
                  <a:pt x="7948" y="11814"/>
                  <a:pt x="7934" y="11833"/>
                  <a:pt x="7962" y="11881"/>
                </a:cubicBezTo>
                <a:cubicBezTo>
                  <a:pt x="7972" y="11796"/>
                  <a:pt x="7999" y="11714"/>
                  <a:pt x="8012" y="11633"/>
                </a:cubicBezTo>
                <a:cubicBezTo>
                  <a:pt x="8021" y="11575"/>
                  <a:pt x="8032" y="11534"/>
                  <a:pt x="8062" y="11485"/>
                </a:cubicBezTo>
                <a:cubicBezTo>
                  <a:pt x="8112" y="11535"/>
                  <a:pt x="8107" y="11569"/>
                  <a:pt x="8136" y="11633"/>
                </a:cubicBezTo>
                <a:cubicBezTo>
                  <a:pt x="8164" y="11697"/>
                  <a:pt x="8245" y="11871"/>
                  <a:pt x="8260" y="11857"/>
                </a:cubicBezTo>
              </a:path>
              <a:path w="3796" h="7045">
                <a:moveTo>
                  <a:pt x="8334" y="11658"/>
                </a:moveTo>
                <a:cubicBezTo>
                  <a:pt x="8381" y="11630"/>
                  <a:pt x="8450" y="11622"/>
                  <a:pt x="8508" y="11609"/>
                </a:cubicBezTo>
                <a:cubicBezTo>
                  <a:pt x="8516" y="11609"/>
                  <a:pt x="8525" y="11609"/>
                  <a:pt x="8533" y="11609"/>
                </a:cubicBezTo>
              </a:path>
              <a:path w="3796" h="7045">
                <a:moveTo>
                  <a:pt x="8657" y="11460"/>
                </a:moveTo>
                <a:cubicBezTo>
                  <a:pt x="8657" y="11581"/>
                  <a:pt x="8664" y="11693"/>
                  <a:pt x="8682" y="11807"/>
                </a:cubicBezTo>
                <a:cubicBezTo>
                  <a:pt x="8691" y="11865"/>
                  <a:pt x="8667" y="11879"/>
                  <a:pt x="8706" y="11906"/>
                </a:cubicBezTo>
              </a:path>
              <a:path w="3796" h="7045">
                <a:moveTo>
                  <a:pt x="8756" y="11162"/>
                </a:moveTo>
                <a:cubicBezTo>
                  <a:pt x="8805" y="11223"/>
                  <a:pt x="8829" y="11286"/>
                  <a:pt x="8855" y="11361"/>
                </a:cubicBezTo>
                <a:cubicBezTo>
                  <a:pt x="8890" y="11462"/>
                  <a:pt x="8908" y="11557"/>
                  <a:pt x="8930" y="11658"/>
                </a:cubicBezTo>
                <a:cubicBezTo>
                  <a:pt x="8951" y="11753"/>
                  <a:pt x="8954" y="11833"/>
                  <a:pt x="8954" y="11931"/>
                </a:cubicBezTo>
                <a:cubicBezTo>
                  <a:pt x="8954" y="12003"/>
                  <a:pt x="8928" y="12032"/>
                  <a:pt x="8880" y="12080"/>
                </a:cubicBezTo>
                <a:cubicBezTo>
                  <a:pt x="8850" y="12110"/>
                  <a:pt x="8814" y="12128"/>
                  <a:pt x="8781" y="12154"/>
                </a:cubicBezTo>
              </a:path>
              <a:path w="3796" h="7045">
                <a:moveTo>
                  <a:pt x="9897" y="9798"/>
                </a:moveTo>
                <a:cubicBezTo>
                  <a:pt x="9899" y="9800"/>
                  <a:pt x="9929" y="9866"/>
                  <a:pt x="9996" y="9897"/>
                </a:cubicBezTo>
                <a:cubicBezTo>
                  <a:pt x="10171" y="9977"/>
                  <a:pt x="10354" y="10032"/>
                  <a:pt x="10517" y="10145"/>
                </a:cubicBezTo>
                <a:cubicBezTo>
                  <a:pt x="10747" y="10305"/>
                  <a:pt x="10943" y="10430"/>
                  <a:pt x="10889" y="10716"/>
                </a:cubicBezTo>
                <a:cubicBezTo>
                  <a:pt x="10858" y="10877"/>
                  <a:pt x="10764" y="10948"/>
                  <a:pt x="10666" y="11063"/>
                </a:cubicBezTo>
                <a:cubicBezTo>
                  <a:pt x="10424" y="11345"/>
                  <a:pt x="10133" y="11668"/>
                  <a:pt x="10096" y="12055"/>
                </a:cubicBezTo>
                <a:cubicBezTo>
                  <a:pt x="10070" y="12323"/>
                  <a:pt x="10152" y="12484"/>
                  <a:pt x="10269" y="12725"/>
                </a:cubicBezTo>
                <a:cubicBezTo>
                  <a:pt x="10374" y="12942"/>
                  <a:pt x="10490" y="13164"/>
                  <a:pt x="10616" y="13370"/>
                </a:cubicBezTo>
                <a:cubicBezTo>
                  <a:pt x="10769" y="13618"/>
                  <a:pt x="10888" y="13892"/>
                  <a:pt x="10914" y="14188"/>
                </a:cubicBezTo>
                <a:cubicBezTo>
                  <a:pt x="10932" y="14397"/>
                  <a:pt x="10877" y="14611"/>
                  <a:pt x="10815" y="14808"/>
                </a:cubicBezTo>
                <a:cubicBezTo>
                  <a:pt x="10744" y="15033"/>
                  <a:pt x="10621" y="15221"/>
                  <a:pt x="10517" y="15429"/>
                </a:cubicBezTo>
                <a:cubicBezTo>
                  <a:pt x="10406" y="15651"/>
                  <a:pt x="10300" y="15889"/>
                  <a:pt x="10220" y="16123"/>
                </a:cubicBezTo>
                <a:cubicBezTo>
                  <a:pt x="10157" y="16306"/>
                  <a:pt x="10101" y="16547"/>
                  <a:pt x="10120" y="16743"/>
                </a:cubicBezTo>
                <a:cubicBezTo>
                  <a:pt x="10128" y="16776"/>
                  <a:pt x="10137" y="16809"/>
                  <a:pt x="10145" y="168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Ink 14"/>
          <p:cNvSpPr/>
          <p:nvPr/>
        </p:nvSpPr>
        <p:spPr>
          <a:xfrm>
            <a:off x="4133880" y="3803760"/>
            <a:ext cx="98280" cy="1440"/>
          </a:xfrm>
          <a:custGeom>
            <a:avLst/>
            <a:gdLst/>
            <a:ahLst/>
            <a:rect l="l" t="t" r="r" b="b"/>
            <a:pathLst>
              <a:path w="273" h="1">
                <a:moveTo>
                  <a:pt x="11485" y="10567"/>
                </a:moveTo>
                <a:cubicBezTo>
                  <a:pt x="11576" y="10567"/>
                  <a:pt x="11666" y="10567"/>
                  <a:pt x="11757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Ink 15"/>
          <p:cNvSpPr/>
          <p:nvPr/>
        </p:nvSpPr>
        <p:spPr>
          <a:xfrm>
            <a:off x="4464000" y="3589200"/>
            <a:ext cx="331920" cy="501840"/>
          </a:xfrm>
          <a:custGeom>
            <a:avLst/>
            <a:gdLst/>
            <a:ahLst/>
            <a:rect l="l" t="t" r="r" b="b"/>
            <a:pathLst>
              <a:path w="919" h="1391">
                <a:moveTo>
                  <a:pt x="12402" y="10145"/>
                </a:moveTo>
                <a:cubicBezTo>
                  <a:pt x="12402" y="10319"/>
                  <a:pt x="12402" y="10492"/>
                  <a:pt x="12402" y="10666"/>
                </a:cubicBezTo>
              </a:path>
              <a:path w="919" h="1391">
                <a:moveTo>
                  <a:pt x="12675" y="9971"/>
                </a:moveTo>
                <a:cubicBezTo>
                  <a:pt x="12675" y="10047"/>
                  <a:pt x="12666" y="10122"/>
                  <a:pt x="12650" y="10195"/>
                </a:cubicBezTo>
                <a:cubicBezTo>
                  <a:pt x="12622" y="10320"/>
                  <a:pt x="12579" y="10444"/>
                  <a:pt x="12551" y="10567"/>
                </a:cubicBezTo>
                <a:cubicBezTo>
                  <a:pt x="12529" y="10665"/>
                  <a:pt x="12501" y="10769"/>
                  <a:pt x="12477" y="10864"/>
                </a:cubicBezTo>
                <a:cubicBezTo>
                  <a:pt x="12468" y="10898"/>
                  <a:pt x="12452" y="11138"/>
                  <a:pt x="12452" y="11013"/>
                </a:cubicBezTo>
              </a:path>
              <a:path w="919" h="1391">
                <a:moveTo>
                  <a:pt x="12650" y="10592"/>
                </a:moveTo>
                <a:cubicBezTo>
                  <a:pt x="12690" y="10570"/>
                  <a:pt x="12806" y="10511"/>
                  <a:pt x="12849" y="10517"/>
                </a:cubicBezTo>
                <a:cubicBezTo>
                  <a:pt x="12898" y="10542"/>
                  <a:pt x="12915" y="10551"/>
                  <a:pt x="12948" y="10567"/>
                </a:cubicBezTo>
                <a:cubicBezTo>
                  <a:pt x="12936" y="10651"/>
                  <a:pt x="12915" y="10641"/>
                  <a:pt x="12849" y="10691"/>
                </a:cubicBezTo>
                <a:cubicBezTo>
                  <a:pt x="12798" y="10729"/>
                  <a:pt x="12817" y="10731"/>
                  <a:pt x="12750" y="10740"/>
                </a:cubicBezTo>
                <a:cubicBezTo>
                  <a:pt x="12809" y="10776"/>
                  <a:pt x="12861" y="10741"/>
                  <a:pt x="12923" y="10765"/>
                </a:cubicBezTo>
                <a:cubicBezTo>
                  <a:pt x="12967" y="10782"/>
                  <a:pt x="13039" y="10794"/>
                  <a:pt x="13072" y="10840"/>
                </a:cubicBezTo>
                <a:cubicBezTo>
                  <a:pt x="13110" y="10893"/>
                  <a:pt x="13110" y="10966"/>
                  <a:pt x="13072" y="11013"/>
                </a:cubicBezTo>
                <a:cubicBezTo>
                  <a:pt x="13030" y="11065"/>
                  <a:pt x="12960" y="11085"/>
                  <a:pt x="12898" y="11088"/>
                </a:cubicBezTo>
                <a:cubicBezTo>
                  <a:pt x="12815" y="11093"/>
                  <a:pt x="12782" y="11124"/>
                  <a:pt x="12700" y="11088"/>
                </a:cubicBezTo>
                <a:cubicBezTo>
                  <a:pt x="12652" y="11064"/>
                  <a:pt x="12635" y="11058"/>
                  <a:pt x="12650" y="11013"/>
                </a:cubicBezTo>
              </a:path>
              <a:path w="919" h="1391">
                <a:moveTo>
                  <a:pt x="13295" y="11038"/>
                </a:moveTo>
                <a:cubicBezTo>
                  <a:pt x="13295" y="11145"/>
                  <a:pt x="13286" y="11215"/>
                  <a:pt x="13271" y="11311"/>
                </a:cubicBezTo>
                <a:cubicBezTo>
                  <a:pt x="13252" y="11432"/>
                  <a:pt x="13311" y="11301"/>
                  <a:pt x="13320" y="112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Ink 16"/>
          <p:cNvSpPr/>
          <p:nvPr/>
        </p:nvSpPr>
        <p:spPr>
          <a:xfrm>
            <a:off x="4911840" y="3527280"/>
            <a:ext cx="1044360" cy="581040"/>
          </a:xfrm>
          <a:custGeom>
            <a:avLst/>
            <a:gdLst/>
            <a:ahLst/>
            <a:rect l="l" t="t" r="r" b="b"/>
            <a:pathLst>
              <a:path w="2903" h="1613">
                <a:moveTo>
                  <a:pt x="13643" y="9971"/>
                </a:moveTo>
                <a:cubicBezTo>
                  <a:pt x="13643" y="10107"/>
                  <a:pt x="13647" y="10238"/>
                  <a:pt x="13667" y="10368"/>
                </a:cubicBezTo>
                <a:cubicBezTo>
                  <a:pt x="13667" y="10385"/>
                  <a:pt x="13667" y="10401"/>
                  <a:pt x="13667" y="10418"/>
                </a:cubicBezTo>
              </a:path>
              <a:path w="2903" h="1613">
                <a:moveTo>
                  <a:pt x="13965" y="9971"/>
                </a:moveTo>
                <a:cubicBezTo>
                  <a:pt x="13940" y="10120"/>
                  <a:pt x="13910" y="10268"/>
                  <a:pt x="13891" y="10418"/>
                </a:cubicBezTo>
                <a:cubicBezTo>
                  <a:pt x="13872" y="10574"/>
                  <a:pt x="13839" y="10718"/>
                  <a:pt x="13816" y="10864"/>
                </a:cubicBezTo>
                <a:cubicBezTo>
                  <a:pt x="13806" y="10929"/>
                  <a:pt x="13801" y="10995"/>
                  <a:pt x="13866" y="10964"/>
                </a:cubicBezTo>
              </a:path>
              <a:path w="2903" h="1613">
                <a:moveTo>
                  <a:pt x="14238" y="10492"/>
                </a:moveTo>
                <a:cubicBezTo>
                  <a:pt x="14130" y="10473"/>
                  <a:pt x="14103" y="10486"/>
                  <a:pt x="14015" y="10567"/>
                </a:cubicBezTo>
                <a:cubicBezTo>
                  <a:pt x="13928" y="10647"/>
                  <a:pt x="14017" y="10689"/>
                  <a:pt x="14064" y="10716"/>
                </a:cubicBezTo>
                <a:cubicBezTo>
                  <a:pt x="14105" y="10740"/>
                  <a:pt x="14162" y="10701"/>
                  <a:pt x="14213" y="10666"/>
                </a:cubicBezTo>
                <a:cubicBezTo>
                  <a:pt x="14247" y="10642"/>
                  <a:pt x="14242" y="10601"/>
                  <a:pt x="14263" y="10567"/>
                </a:cubicBezTo>
                <a:cubicBezTo>
                  <a:pt x="14263" y="10655"/>
                  <a:pt x="14242" y="10730"/>
                  <a:pt x="14238" y="10815"/>
                </a:cubicBezTo>
                <a:cubicBezTo>
                  <a:pt x="14234" y="10899"/>
                  <a:pt x="14236" y="10961"/>
                  <a:pt x="14263" y="11038"/>
                </a:cubicBezTo>
                <a:cubicBezTo>
                  <a:pt x="14283" y="11098"/>
                  <a:pt x="14282" y="11112"/>
                  <a:pt x="14312" y="11137"/>
                </a:cubicBezTo>
              </a:path>
              <a:path w="2903" h="1613">
                <a:moveTo>
                  <a:pt x="14511" y="10988"/>
                </a:moveTo>
                <a:cubicBezTo>
                  <a:pt x="14511" y="11089"/>
                  <a:pt x="14475" y="11284"/>
                  <a:pt x="14536" y="11361"/>
                </a:cubicBezTo>
                <a:cubicBezTo>
                  <a:pt x="14560" y="11385"/>
                  <a:pt x="14568" y="11393"/>
                  <a:pt x="14585" y="11361"/>
                </a:cubicBezTo>
              </a:path>
              <a:path w="2903" h="1613">
                <a:moveTo>
                  <a:pt x="14759" y="10368"/>
                </a:moveTo>
                <a:cubicBezTo>
                  <a:pt x="14858" y="10351"/>
                  <a:pt x="14940" y="10331"/>
                  <a:pt x="15032" y="10319"/>
                </a:cubicBezTo>
              </a:path>
              <a:path w="2903" h="1613">
                <a:moveTo>
                  <a:pt x="15255" y="9872"/>
                </a:moveTo>
                <a:cubicBezTo>
                  <a:pt x="15255" y="10012"/>
                  <a:pt x="15224" y="10191"/>
                  <a:pt x="15280" y="10319"/>
                </a:cubicBezTo>
                <a:cubicBezTo>
                  <a:pt x="15301" y="10362"/>
                  <a:pt x="15305" y="10374"/>
                  <a:pt x="15329" y="10393"/>
                </a:cubicBezTo>
              </a:path>
              <a:path w="2903" h="1613">
                <a:moveTo>
                  <a:pt x="15553" y="9798"/>
                </a:moveTo>
                <a:cubicBezTo>
                  <a:pt x="15545" y="9915"/>
                  <a:pt x="15534" y="10030"/>
                  <a:pt x="15503" y="10145"/>
                </a:cubicBezTo>
                <a:cubicBezTo>
                  <a:pt x="15472" y="10260"/>
                  <a:pt x="15440" y="10373"/>
                  <a:pt x="15429" y="10492"/>
                </a:cubicBezTo>
                <a:cubicBezTo>
                  <a:pt x="15419" y="10592"/>
                  <a:pt x="15409" y="10691"/>
                  <a:pt x="15404" y="10790"/>
                </a:cubicBezTo>
                <a:cubicBezTo>
                  <a:pt x="15402" y="10828"/>
                  <a:pt x="15405" y="10985"/>
                  <a:pt x="15429" y="10864"/>
                </a:cubicBezTo>
              </a:path>
              <a:path w="2903" h="1613">
                <a:moveTo>
                  <a:pt x="15553" y="10492"/>
                </a:moveTo>
                <a:cubicBezTo>
                  <a:pt x="15692" y="10479"/>
                  <a:pt x="15743" y="10456"/>
                  <a:pt x="15850" y="10542"/>
                </a:cubicBezTo>
                <a:cubicBezTo>
                  <a:pt x="15826" y="10607"/>
                  <a:pt x="15825" y="10642"/>
                  <a:pt x="15776" y="10691"/>
                </a:cubicBezTo>
                <a:cubicBezTo>
                  <a:pt x="15722" y="10745"/>
                  <a:pt x="15705" y="10801"/>
                  <a:pt x="15751" y="10864"/>
                </a:cubicBezTo>
                <a:cubicBezTo>
                  <a:pt x="15790" y="10916"/>
                  <a:pt x="15829" y="10881"/>
                  <a:pt x="15875" y="10864"/>
                </a:cubicBezTo>
              </a:path>
              <a:path w="2903" h="1613">
                <a:moveTo>
                  <a:pt x="15999" y="10393"/>
                </a:moveTo>
                <a:cubicBezTo>
                  <a:pt x="16045" y="10374"/>
                  <a:pt x="16185" y="10290"/>
                  <a:pt x="16222" y="10393"/>
                </a:cubicBezTo>
                <a:cubicBezTo>
                  <a:pt x="16250" y="10473"/>
                  <a:pt x="16185" y="10523"/>
                  <a:pt x="16173" y="10592"/>
                </a:cubicBezTo>
                <a:cubicBezTo>
                  <a:pt x="16159" y="10677"/>
                  <a:pt x="16148" y="10751"/>
                  <a:pt x="16148" y="10840"/>
                </a:cubicBezTo>
                <a:cubicBezTo>
                  <a:pt x="16148" y="10901"/>
                  <a:pt x="16148" y="10939"/>
                  <a:pt x="16173" y="10988"/>
                </a:cubicBezTo>
              </a:path>
              <a:path w="2903" h="1613">
                <a:moveTo>
                  <a:pt x="16470" y="10914"/>
                </a:moveTo>
                <a:cubicBezTo>
                  <a:pt x="16470" y="11046"/>
                  <a:pt x="16427" y="11297"/>
                  <a:pt x="16495" y="11410"/>
                </a:cubicBezTo>
                <a:cubicBezTo>
                  <a:pt x="16525" y="11380"/>
                  <a:pt x="16536" y="11366"/>
                  <a:pt x="16545" y="113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Ink 17"/>
          <p:cNvSpPr/>
          <p:nvPr/>
        </p:nvSpPr>
        <p:spPr>
          <a:xfrm>
            <a:off x="6054840" y="3473280"/>
            <a:ext cx="339480" cy="428760"/>
          </a:xfrm>
          <a:custGeom>
            <a:avLst/>
            <a:gdLst/>
            <a:ahLst/>
            <a:rect l="l" t="t" r="r" b="b"/>
            <a:pathLst>
              <a:path w="943" h="1192">
                <a:moveTo>
                  <a:pt x="16818" y="9748"/>
                </a:moveTo>
                <a:cubicBezTo>
                  <a:pt x="16836" y="9888"/>
                  <a:pt x="16838" y="10039"/>
                  <a:pt x="16892" y="10170"/>
                </a:cubicBezTo>
                <a:cubicBezTo>
                  <a:pt x="16928" y="10257"/>
                  <a:pt x="16932" y="10293"/>
                  <a:pt x="17016" y="10269"/>
                </a:cubicBezTo>
              </a:path>
              <a:path w="943" h="1192">
                <a:moveTo>
                  <a:pt x="17214" y="9649"/>
                </a:moveTo>
                <a:cubicBezTo>
                  <a:pt x="17214" y="9730"/>
                  <a:pt x="17199" y="9794"/>
                  <a:pt x="17190" y="9872"/>
                </a:cubicBezTo>
                <a:cubicBezTo>
                  <a:pt x="17176" y="9996"/>
                  <a:pt x="17152" y="10120"/>
                  <a:pt x="17140" y="10244"/>
                </a:cubicBezTo>
                <a:cubicBezTo>
                  <a:pt x="17131" y="10337"/>
                  <a:pt x="17130" y="10752"/>
                  <a:pt x="17165" y="10740"/>
                </a:cubicBezTo>
              </a:path>
              <a:path w="943" h="1192">
                <a:moveTo>
                  <a:pt x="17512" y="10344"/>
                </a:moveTo>
                <a:cubicBezTo>
                  <a:pt x="17501" y="10253"/>
                  <a:pt x="17486" y="10206"/>
                  <a:pt x="17388" y="10244"/>
                </a:cubicBezTo>
                <a:cubicBezTo>
                  <a:pt x="17292" y="10281"/>
                  <a:pt x="17351" y="10347"/>
                  <a:pt x="17363" y="10418"/>
                </a:cubicBezTo>
                <a:cubicBezTo>
                  <a:pt x="17384" y="10543"/>
                  <a:pt x="17423" y="10660"/>
                  <a:pt x="17438" y="10790"/>
                </a:cubicBezTo>
                <a:cubicBezTo>
                  <a:pt x="17438" y="10807"/>
                  <a:pt x="17438" y="10823"/>
                  <a:pt x="17438" y="10840"/>
                </a:cubicBezTo>
                <a:cubicBezTo>
                  <a:pt x="17378" y="10780"/>
                  <a:pt x="17388" y="10754"/>
                  <a:pt x="17388" y="10666"/>
                </a:cubicBezTo>
                <a:cubicBezTo>
                  <a:pt x="17388" y="10583"/>
                  <a:pt x="17434" y="10530"/>
                  <a:pt x="17487" y="10468"/>
                </a:cubicBezTo>
              </a:path>
              <a:path w="943" h="1192">
                <a:moveTo>
                  <a:pt x="17661" y="10244"/>
                </a:moveTo>
                <a:cubicBezTo>
                  <a:pt x="17661" y="10324"/>
                  <a:pt x="17666" y="10394"/>
                  <a:pt x="17686" y="10468"/>
                </a:cubicBezTo>
                <a:cubicBezTo>
                  <a:pt x="17712" y="10565"/>
                  <a:pt x="17755" y="10640"/>
                  <a:pt x="17760" y="10740"/>
                </a:cubicBezTo>
                <a:cubicBezTo>
                  <a:pt x="17760" y="10757"/>
                  <a:pt x="17760" y="10773"/>
                  <a:pt x="17760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Ink 18"/>
          <p:cNvSpPr/>
          <p:nvPr/>
        </p:nvSpPr>
        <p:spPr>
          <a:xfrm>
            <a:off x="4348080" y="4357800"/>
            <a:ext cx="1376280" cy="544320"/>
          </a:xfrm>
          <a:custGeom>
            <a:avLst/>
            <a:gdLst/>
            <a:ahLst/>
            <a:rect l="l" t="t" r="r" b="b"/>
            <a:pathLst>
              <a:path w="3821" h="1514">
                <a:moveTo>
                  <a:pt x="12626" y="13022"/>
                </a:moveTo>
                <a:cubicBezTo>
                  <a:pt x="12626" y="12952"/>
                  <a:pt x="12664" y="12862"/>
                  <a:pt x="12650" y="12799"/>
                </a:cubicBezTo>
                <a:cubicBezTo>
                  <a:pt x="12634" y="12725"/>
                  <a:pt x="12632" y="12646"/>
                  <a:pt x="12601" y="12576"/>
                </a:cubicBezTo>
                <a:cubicBezTo>
                  <a:pt x="12581" y="12532"/>
                  <a:pt x="12547" y="12425"/>
                  <a:pt x="12502" y="12402"/>
                </a:cubicBezTo>
                <a:cubicBezTo>
                  <a:pt x="12436" y="12368"/>
                  <a:pt x="12333" y="12367"/>
                  <a:pt x="12278" y="12427"/>
                </a:cubicBezTo>
                <a:cubicBezTo>
                  <a:pt x="12204" y="12508"/>
                  <a:pt x="12160" y="12619"/>
                  <a:pt x="12129" y="12725"/>
                </a:cubicBezTo>
                <a:cubicBezTo>
                  <a:pt x="12091" y="12856"/>
                  <a:pt x="12080" y="12961"/>
                  <a:pt x="12080" y="13097"/>
                </a:cubicBezTo>
                <a:cubicBezTo>
                  <a:pt x="12080" y="13159"/>
                  <a:pt x="12104" y="13274"/>
                  <a:pt x="12154" y="13320"/>
                </a:cubicBezTo>
                <a:cubicBezTo>
                  <a:pt x="12196" y="13359"/>
                  <a:pt x="12311" y="13384"/>
                  <a:pt x="12353" y="13345"/>
                </a:cubicBezTo>
                <a:cubicBezTo>
                  <a:pt x="12405" y="13297"/>
                  <a:pt x="12445" y="13210"/>
                  <a:pt x="12477" y="13146"/>
                </a:cubicBezTo>
                <a:cubicBezTo>
                  <a:pt x="12516" y="13069"/>
                  <a:pt x="12528" y="13005"/>
                  <a:pt x="12551" y="12923"/>
                </a:cubicBezTo>
                <a:cubicBezTo>
                  <a:pt x="12551" y="13031"/>
                  <a:pt x="12537" y="13144"/>
                  <a:pt x="12576" y="13246"/>
                </a:cubicBezTo>
                <a:cubicBezTo>
                  <a:pt x="12592" y="13287"/>
                  <a:pt x="12649" y="13395"/>
                  <a:pt x="12700" y="13395"/>
                </a:cubicBezTo>
                <a:cubicBezTo>
                  <a:pt x="12725" y="13387"/>
                  <a:pt x="12749" y="13378"/>
                  <a:pt x="12774" y="13370"/>
                </a:cubicBezTo>
              </a:path>
              <a:path w="3821" h="1514">
                <a:moveTo>
                  <a:pt x="12799" y="13122"/>
                </a:moveTo>
                <a:cubicBezTo>
                  <a:pt x="12792" y="13218"/>
                  <a:pt x="12774" y="13297"/>
                  <a:pt x="12774" y="13395"/>
                </a:cubicBezTo>
                <a:cubicBezTo>
                  <a:pt x="12774" y="13411"/>
                  <a:pt x="12774" y="13428"/>
                  <a:pt x="12774" y="13444"/>
                </a:cubicBezTo>
                <a:cubicBezTo>
                  <a:pt x="12823" y="13371"/>
                  <a:pt x="12798" y="13318"/>
                  <a:pt x="12824" y="13246"/>
                </a:cubicBezTo>
                <a:cubicBezTo>
                  <a:pt x="12851" y="13172"/>
                  <a:pt x="12876" y="13065"/>
                  <a:pt x="12923" y="12998"/>
                </a:cubicBezTo>
                <a:cubicBezTo>
                  <a:pt x="12931" y="12990"/>
                  <a:pt x="12940" y="12981"/>
                  <a:pt x="12948" y="12973"/>
                </a:cubicBezTo>
                <a:cubicBezTo>
                  <a:pt x="13039" y="13038"/>
                  <a:pt x="12996" y="13051"/>
                  <a:pt x="13022" y="13146"/>
                </a:cubicBezTo>
                <a:cubicBezTo>
                  <a:pt x="13043" y="13220"/>
                  <a:pt x="13051" y="13298"/>
                  <a:pt x="13072" y="13370"/>
                </a:cubicBezTo>
                <a:cubicBezTo>
                  <a:pt x="13083" y="13408"/>
                  <a:pt x="13096" y="13505"/>
                  <a:pt x="13146" y="13519"/>
                </a:cubicBezTo>
                <a:cubicBezTo>
                  <a:pt x="13198" y="13519"/>
                  <a:pt x="13216" y="13517"/>
                  <a:pt x="13221" y="13469"/>
                </a:cubicBezTo>
              </a:path>
              <a:path w="3821" h="1514">
                <a:moveTo>
                  <a:pt x="13345" y="12898"/>
                </a:moveTo>
                <a:cubicBezTo>
                  <a:pt x="13415" y="12859"/>
                  <a:pt x="13436" y="12849"/>
                  <a:pt x="13519" y="12849"/>
                </a:cubicBezTo>
              </a:path>
              <a:path w="3821" h="1514">
                <a:moveTo>
                  <a:pt x="13320" y="13047"/>
                </a:moveTo>
                <a:cubicBezTo>
                  <a:pt x="13412" y="13082"/>
                  <a:pt x="13491" y="13072"/>
                  <a:pt x="13593" y="13072"/>
                </a:cubicBezTo>
              </a:path>
              <a:path w="3821" h="1514">
                <a:moveTo>
                  <a:pt x="14064" y="12254"/>
                </a:moveTo>
                <a:cubicBezTo>
                  <a:pt x="14024" y="12343"/>
                  <a:pt x="13973" y="12407"/>
                  <a:pt x="13940" y="12502"/>
                </a:cubicBezTo>
                <a:cubicBezTo>
                  <a:pt x="13898" y="12623"/>
                  <a:pt x="13844" y="12746"/>
                  <a:pt x="13841" y="12874"/>
                </a:cubicBezTo>
                <a:cubicBezTo>
                  <a:pt x="13838" y="12989"/>
                  <a:pt x="13841" y="13110"/>
                  <a:pt x="13866" y="13221"/>
                </a:cubicBezTo>
                <a:cubicBezTo>
                  <a:pt x="13886" y="13311"/>
                  <a:pt x="13927" y="13357"/>
                  <a:pt x="13990" y="13419"/>
                </a:cubicBezTo>
                <a:cubicBezTo>
                  <a:pt x="14012" y="13441"/>
                  <a:pt x="14017" y="13450"/>
                  <a:pt x="14039" y="13444"/>
                </a:cubicBezTo>
              </a:path>
              <a:path w="3821" h="1514">
                <a:moveTo>
                  <a:pt x="14039" y="12750"/>
                </a:moveTo>
                <a:cubicBezTo>
                  <a:pt x="14113" y="12750"/>
                  <a:pt x="14171" y="12734"/>
                  <a:pt x="14238" y="12725"/>
                </a:cubicBezTo>
                <a:cubicBezTo>
                  <a:pt x="14263" y="12725"/>
                  <a:pt x="14287" y="12725"/>
                  <a:pt x="14312" y="12725"/>
                </a:cubicBezTo>
              </a:path>
              <a:path w="3821" h="1514">
                <a:moveTo>
                  <a:pt x="14486" y="12229"/>
                </a:moveTo>
                <a:cubicBezTo>
                  <a:pt x="14486" y="12313"/>
                  <a:pt x="14497" y="12395"/>
                  <a:pt x="14511" y="12477"/>
                </a:cubicBezTo>
                <a:cubicBezTo>
                  <a:pt x="14525" y="12560"/>
                  <a:pt x="14526" y="12680"/>
                  <a:pt x="14560" y="12750"/>
                </a:cubicBezTo>
              </a:path>
              <a:path w="3821" h="1514">
                <a:moveTo>
                  <a:pt x="14759" y="12229"/>
                </a:moveTo>
                <a:cubicBezTo>
                  <a:pt x="14746" y="12332"/>
                  <a:pt x="14700" y="12421"/>
                  <a:pt x="14684" y="12526"/>
                </a:cubicBezTo>
                <a:cubicBezTo>
                  <a:pt x="14667" y="12642"/>
                  <a:pt x="14655" y="12759"/>
                  <a:pt x="14635" y="12874"/>
                </a:cubicBezTo>
                <a:cubicBezTo>
                  <a:pt x="14618" y="12973"/>
                  <a:pt x="14600" y="13076"/>
                  <a:pt x="14585" y="13171"/>
                </a:cubicBezTo>
                <a:cubicBezTo>
                  <a:pt x="14576" y="13231"/>
                  <a:pt x="14590" y="13267"/>
                  <a:pt x="14610" y="13320"/>
                </a:cubicBezTo>
              </a:path>
              <a:path w="3821" h="1514">
                <a:moveTo>
                  <a:pt x="14883" y="12774"/>
                </a:moveTo>
                <a:cubicBezTo>
                  <a:pt x="14998" y="12754"/>
                  <a:pt x="15030" y="12723"/>
                  <a:pt x="15106" y="12799"/>
                </a:cubicBezTo>
                <a:cubicBezTo>
                  <a:pt x="15164" y="12857"/>
                  <a:pt x="15126" y="12944"/>
                  <a:pt x="15081" y="12998"/>
                </a:cubicBezTo>
                <a:cubicBezTo>
                  <a:pt x="15041" y="13046"/>
                  <a:pt x="15004" y="13044"/>
                  <a:pt x="14957" y="13072"/>
                </a:cubicBezTo>
                <a:cubicBezTo>
                  <a:pt x="15034" y="13072"/>
                  <a:pt x="15089" y="13076"/>
                  <a:pt x="15156" y="13122"/>
                </a:cubicBezTo>
                <a:cubicBezTo>
                  <a:pt x="15195" y="13149"/>
                  <a:pt x="15245" y="13250"/>
                  <a:pt x="15255" y="13295"/>
                </a:cubicBezTo>
                <a:cubicBezTo>
                  <a:pt x="15268" y="13352"/>
                  <a:pt x="15282" y="13410"/>
                  <a:pt x="15255" y="13469"/>
                </a:cubicBezTo>
                <a:cubicBezTo>
                  <a:pt x="15230" y="13523"/>
                  <a:pt x="15129" y="13550"/>
                  <a:pt x="15081" y="13543"/>
                </a:cubicBezTo>
                <a:cubicBezTo>
                  <a:pt x="14990" y="13529"/>
                  <a:pt x="14968" y="13470"/>
                  <a:pt x="14957" y="13395"/>
                </a:cubicBezTo>
              </a:path>
              <a:path w="3821" h="1514">
                <a:moveTo>
                  <a:pt x="15180" y="12105"/>
                </a:moveTo>
                <a:cubicBezTo>
                  <a:pt x="15275" y="12275"/>
                  <a:pt x="15310" y="12419"/>
                  <a:pt x="15379" y="12601"/>
                </a:cubicBezTo>
                <a:cubicBezTo>
                  <a:pt x="15441" y="12766"/>
                  <a:pt x="15465" y="12920"/>
                  <a:pt x="15478" y="13097"/>
                </a:cubicBezTo>
                <a:cubicBezTo>
                  <a:pt x="15485" y="13195"/>
                  <a:pt x="15473" y="13358"/>
                  <a:pt x="15429" y="13444"/>
                </a:cubicBezTo>
                <a:cubicBezTo>
                  <a:pt x="15403" y="13494"/>
                  <a:pt x="15336" y="13601"/>
                  <a:pt x="15280" y="13618"/>
                </a:cubicBezTo>
                <a:cubicBezTo>
                  <a:pt x="15180" y="13648"/>
                  <a:pt x="15219" y="13579"/>
                  <a:pt x="15255" y="13543"/>
                </a:cubicBezTo>
              </a:path>
              <a:path w="3821" h="1514">
                <a:moveTo>
                  <a:pt x="15776" y="12824"/>
                </a:moveTo>
                <a:cubicBezTo>
                  <a:pt x="15734" y="12866"/>
                  <a:pt x="15692" y="12914"/>
                  <a:pt x="15751" y="12973"/>
                </a:cubicBezTo>
                <a:cubicBezTo>
                  <a:pt x="15800" y="13022"/>
                  <a:pt x="15880" y="12944"/>
                  <a:pt x="15875" y="12898"/>
                </a:cubicBezTo>
                <a:cubicBezTo>
                  <a:pt x="15867" y="12890"/>
                  <a:pt x="15858" y="12882"/>
                  <a:pt x="15850" y="12874"/>
                </a:cubicBezTo>
                <a:cubicBezTo>
                  <a:pt x="15762" y="12886"/>
                  <a:pt x="15786" y="12877"/>
                  <a:pt x="15776" y="12973"/>
                </a:cubicBezTo>
                <a:cubicBezTo>
                  <a:pt x="15853" y="12951"/>
                  <a:pt x="15879" y="12907"/>
                  <a:pt x="15900" y="12824"/>
                </a:cubicBezTo>
                <a:cubicBezTo>
                  <a:pt x="15855" y="12797"/>
                  <a:pt x="15805" y="12784"/>
                  <a:pt x="15776" y="12849"/>
                </a:cubicBezTo>
                <a:cubicBezTo>
                  <a:pt x="15776" y="12857"/>
                  <a:pt x="15776" y="12866"/>
                  <a:pt x="15776" y="128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Ink 19"/>
          <p:cNvSpPr/>
          <p:nvPr/>
        </p:nvSpPr>
        <p:spPr>
          <a:xfrm>
            <a:off x="5848200" y="4062240"/>
            <a:ext cx="1054080" cy="866880"/>
          </a:xfrm>
          <a:custGeom>
            <a:avLst/>
            <a:gdLst/>
            <a:ahLst/>
            <a:rect l="l" t="t" r="r" b="b"/>
            <a:pathLst>
              <a:path w="2928" h="2407">
                <a:moveTo>
                  <a:pt x="16545" y="11981"/>
                </a:moveTo>
                <a:cubicBezTo>
                  <a:pt x="16511" y="12074"/>
                  <a:pt x="16470" y="12144"/>
                  <a:pt x="16421" y="12229"/>
                </a:cubicBezTo>
                <a:cubicBezTo>
                  <a:pt x="16373" y="12313"/>
                  <a:pt x="16346" y="12431"/>
                  <a:pt x="16321" y="12526"/>
                </a:cubicBezTo>
                <a:cubicBezTo>
                  <a:pt x="16272" y="12711"/>
                  <a:pt x="16247" y="12835"/>
                  <a:pt x="16247" y="13022"/>
                </a:cubicBezTo>
                <a:cubicBezTo>
                  <a:pt x="16247" y="13184"/>
                  <a:pt x="16294" y="13276"/>
                  <a:pt x="16346" y="13419"/>
                </a:cubicBezTo>
                <a:cubicBezTo>
                  <a:pt x="16379" y="13509"/>
                  <a:pt x="16417" y="13647"/>
                  <a:pt x="16520" y="13692"/>
                </a:cubicBezTo>
                <a:cubicBezTo>
                  <a:pt x="16537" y="13692"/>
                  <a:pt x="16553" y="13692"/>
                  <a:pt x="16570" y="13692"/>
                </a:cubicBezTo>
              </a:path>
              <a:path w="2928" h="2407">
                <a:moveTo>
                  <a:pt x="16669" y="12750"/>
                </a:moveTo>
                <a:cubicBezTo>
                  <a:pt x="16819" y="12731"/>
                  <a:pt x="16843" y="12744"/>
                  <a:pt x="16917" y="12700"/>
                </a:cubicBezTo>
              </a:path>
              <a:path w="2928" h="2407">
                <a:moveTo>
                  <a:pt x="17066" y="12129"/>
                </a:moveTo>
                <a:cubicBezTo>
                  <a:pt x="17053" y="12265"/>
                  <a:pt x="17066" y="12366"/>
                  <a:pt x="17066" y="12502"/>
                </a:cubicBezTo>
                <a:cubicBezTo>
                  <a:pt x="17066" y="12565"/>
                  <a:pt x="17069" y="12692"/>
                  <a:pt x="17090" y="12750"/>
                </a:cubicBezTo>
                <a:cubicBezTo>
                  <a:pt x="17119" y="12778"/>
                  <a:pt x="17127" y="12791"/>
                  <a:pt x="17115" y="12824"/>
                </a:cubicBezTo>
              </a:path>
              <a:path w="2928" h="2407">
                <a:moveTo>
                  <a:pt x="17388" y="12204"/>
                </a:moveTo>
                <a:cubicBezTo>
                  <a:pt x="17334" y="12319"/>
                  <a:pt x="17312" y="12405"/>
                  <a:pt x="17289" y="12526"/>
                </a:cubicBezTo>
                <a:cubicBezTo>
                  <a:pt x="17265" y="12655"/>
                  <a:pt x="17257" y="12769"/>
                  <a:pt x="17239" y="12898"/>
                </a:cubicBezTo>
                <a:cubicBezTo>
                  <a:pt x="17226" y="12994"/>
                  <a:pt x="17213" y="13103"/>
                  <a:pt x="17190" y="13196"/>
                </a:cubicBezTo>
                <a:cubicBezTo>
                  <a:pt x="17171" y="13254"/>
                  <a:pt x="17162" y="13260"/>
                  <a:pt x="17165" y="13295"/>
                </a:cubicBezTo>
              </a:path>
              <a:path w="2928" h="2407">
                <a:moveTo>
                  <a:pt x="17363" y="12799"/>
                </a:moveTo>
                <a:cubicBezTo>
                  <a:pt x="17454" y="12736"/>
                  <a:pt x="17484" y="12696"/>
                  <a:pt x="17587" y="12774"/>
                </a:cubicBezTo>
                <a:cubicBezTo>
                  <a:pt x="17671" y="12837"/>
                  <a:pt x="17567" y="12886"/>
                  <a:pt x="17537" y="12923"/>
                </a:cubicBezTo>
                <a:cubicBezTo>
                  <a:pt x="17492" y="12979"/>
                  <a:pt x="17457" y="12983"/>
                  <a:pt x="17388" y="13022"/>
                </a:cubicBezTo>
                <a:cubicBezTo>
                  <a:pt x="17441" y="13054"/>
                  <a:pt x="17507" y="13047"/>
                  <a:pt x="17562" y="13072"/>
                </a:cubicBezTo>
                <a:cubicBezTo>
                  <a:pt x="17638" y="13107"/>
                  <a:pt x="17632" y="13139"/>
                  <a:pt x="17661" y="13196"/>
                </a:cubicBezTo>
                <a:cubicBezTo>
                  <a:pt x="17690" y="13253"/>
                  <a:pt x="17702" y="13318"/>
                  <a:pt x="17636" y="13370"/>
                </a:cubicBezTo>
                <a:cubicBezTo>
                  <a:pt x="17572" y="13421"/>
                  <a:pt x="17439" y="13443"/>
                  <a:pt x="17363" y="13419"/>
                </a:cubicBezTo>
                <a:cubicBezTo>
                  <a:pt x="17297" y="13398"/>
                  <a:pt x="17272" y="13354"/>
                  <a:pt x="17264" y="13295"/>
                </a:cubicBezTo>
              </a:path>
              <a:path w="2928" h="2407">
                <a:moveTo>
                  <a:pt x="17636" y="11981"/>
                </a:moveTo>
                <a:cubicBezTo>
                  <a:pt x="17682" y="12026"/>
                  <a:pt x="17737" y="12099"/>
                  <a:pt x="17760" y="12154"/>
                </a:cubicBezTo>
                <a:cubicBezTo>
                  <a:pt x="17819" y="12297"/>
                  <a:pt x="17878" y="12448"/>
                  <a:pt x="17909" y="12601"/>
                </a:cubicBezTo>
                <a:cubicBezTo>
                  <a:pt x="17944" y="12775"/>
                  <a:pt x="17998" y="12968"/>
                  <a:pt x="17983" y="13146"/>
                </a:cubicBezTo>
                <a:cubicBezTo>
                  <a:pt x="17972" y="13272"/>
                  <a:pt x="17958" y="13401"/>
                  <a:pt x="17909" y="13519"/>
                </a:cubicBezTo>
                <a:cubicBezTo>
                  <a:pt x="17875" y="13600"/>
                  <a:pt x="17850" y="13619"/>
                  <a:pt x="17785" y="13667"/>
                </a:cubicBezTo>
                <a:cubicBezTo>
                  <a:pt x="17708" y="13724"/>
                  <a:pt x="17739" y="13604"/>
                  <a:pt x="17735" y="13543"/>
                </a:cubicBezTo>
              </a:path>
              <a:path w="2928" h="2407">
                <a:moveTo>
                  <a:pt x="18008" y="11807"/>
                </a:moveTo>
                <a:cubicBezTo>
                  <a:pt x="18017" y="11877"/>
                  <a:pt x="18033" y="11932"/>
                  <a:pt x="18033" y="12005"/>
                </a:cubicBezTo>
                <a:cubicBezTo>
                  <a:pt x="18033" y="12067"/>
                  <a:pt x="18052" y="12116"/>
                  <a:pt x="18058" y="12179"/>
                </a:cubicBezTo>
                <a:cubicBezTo>
                  <a:pt x="18067" y="12102"/>
                  <a:pt x="18083" y="12035"/>
                  <a:pt x="18083" y="11956"/>
                </a:cubicBezTo>
                <a:cubicBezTo>
                  <a:pt x="18083" y="11881"/>
                  <a:pt x="18103" y="11826"/>
                  <a:pt x="18107" y="11757"/>
                </a:cubicBezTo>
                <a:cubicBezTo>
                  <a:pt x="18107" y="11713"/>
                  <a:pt x="18104" y="11699"/>
                  <a:pt x="18132" y="11683"/>
                </a:cubicBezTo>
                <a:cubicBezTo>
                  <a:pt x="18211" y="11706"/>
                  <a:pt x="18234" y="11775"/>
                  <a:pt x="18281" y="11857"/>
                </a:cubicBezTo>
                <a:cubicBezTo>
                  <a:pt x="18318" y="11921"/>
                  <a:pt x="18344" y="12010"/>
                  <a:pt x="18355" y="12080"/>
                </a:cubicBezTo>
                <a:cubicBezTo>
                  <a:pt x="18355" y="12124"/>
                  <a:pt x="18352" y="12138"/>
                  <a:pt x="18380" y="12154"/>
                </a:cubicBezTo>
              </a:path>
              <a:path w="2928" h="2407">
                <a:moveTo>
                  <a:pt x="18455" y="11857"/>
                </a:moveTo>
                <a:cubicBezTo>
                  <a:pt x="18530" y="11816"/>
                  <a:pt x="18581" y="11799"/>
                  <a:pt x="18653" y="11757"/>
                </a:cubicBezTo>
              </a:path>
              <a:path w="2928" h="2407">
                <a:moveTo>
                  <a:pt x="18802" y="11683"/>
                </a:moveTo>
                <a:cubicBezTo>
                  <a:pt x="18802" y="11817"/>
                  <a:pt x="18822" y="11928"/>
                  <a:pt x="18827" y="12055"/>
                </a:cubicBezTo>
                <a:cubicBezTo>
                  <a:pt x="18830" y="12122"/>
                  <a:pt x="18844" y="12165"/>
                  <a:pt x="18852" y="12229"/>
                </a:cubicBezTo>
              </a:path>
              <a:path w="2928" h="2407">
                <a:moveTo>
                  <a:pt x="17884" y="11435"/>
                </a:moveTo>
                <a:cubicBezTo>
                  <a:pt x="17813" y="11536"/>
                  <a:pt x="17740" y="11622"/>
                  <a:pt x="17760" y="11757"/>
                </a:cubicBezTo>
                <a:cubicBezTo>
                  <a:pt x="17774" y="11850"/>
                  <a:pt x="17825" y="11982"/>
                  <a:pt x="17884" y="12055"/>
                </a:cubicBezTo>
                <a:cubicBezTo>
                  <a:pt x="17951" y="12121"/>
                  <a:pt x="17967" y="12137"/>
                  <a:pt x="18008" y="12179"/>
                </a:cubicBezTo>
              </a:path>
              <a:path w="2928" h="2407">
                <a:moveTo>
                  <a:pt x="18951" y="11286"/>
                </a:moveTo>
                <a:cubicBezTo>
                  <a:pt x="19039" y="11350"/>
                  <a:pt x="19069" y="11426"/>
                  <a:pt x="19100" y="11534"/>
                </a:cubicBezTo>
                <a:cubicBezTo>
                  <a:pt x="19140" y="11674"/>
                  <a:pt x="19181" y="11861"/>
                  <a:pt x="19174" y="12005"/>
                </a:cubicBezTo>
                <a:cubicBezTo>
                  <a:pt x="19170" y="12076"/>
                  <a:pt x="19124" y="12162"/>
                  <a:pt x="19100" y="122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Write the first four terms.  Find their common ratio.  Write an expression for the n</a:t>
            </a:r>
            <a:r>
              <a:rPr b="0" lang="en-US" sz="4000" spc="-1" strike="noStrike" baseline="30000">
                <a:solidFill>
                  <a:srgbClr val="d1d1d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 term.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5,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k+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-2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108,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3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Ink 4"/>
          <p:cNvSpPr/>
          <p:nvPr/>
        </p:nvSpPr>
        <p:spPr>
          <a:xfrm>
            <a:off x="509760" y="3732120"/>
            <a:ext cx="857160" cy="474840"/>
          </a:xfrm>
          <a:custGeom>
            <a:avLst/>
            <a:gdLst/>
            <a:ahLst/>
            <a:rect l="l" t="t" r="r" b="b"/>
            <a:pathLst>
              <a:path w="2382" h="1316">
                <a:moveTo>
                  <a:pt x="1414" y="10418"/>
                </a:moveTo>
                <a:cubicBezTo>
                  <a:pt x="1559" y="10418"/>
                  <a:pt x="1698" y="10421"/>
                  <a:pt x="1836" y="10443"/>
                </a:cubicBezTo>
                <a:cubicBezTo>
                  <a:pt x="1877" y="10443"/>
                  <a:pt x="1893" y="10451"/>
                  <a:pt x="1885" y="10418"/>
                </a:cubicBezTo>
              </a:path>
              <a:path w="2382" h="1316">
                <a:moveTo>
                  <a:pt x="1538" y="10368"/>
                </a:moveTo>
                <a:cubicBezTo>
                  <a:pt x="1474" y="10454"/>
                  <a:pt x="1499" y="10475"/>
                  <a:pt x="1463" y="10567"/>
                </a:cubicBezTo>
                <a:cubicBezTo>
                  <a:pt x="1442" y="10621"/>
                  <a:pt x="1416" y="10723"/>
                  <a:pt x="1439" y="10790"/>
                </a:cubicBezTo>
                <a:cubicBezTo>
                  <a:pt x="1447" y="10798"/>
                  <a:pt x="1455" y="10807"/>
                  <a:pt x="1463" y="10815"/>
                </a:cubicBezTo>
                <a:cubicBezTo>
                  <a:pt x="1495" y="10775"/>
                  <a:pt x="1518" y="10720"/>
                  <a:pt x="1563" y="10691"/>
                </a:cubicBezTo>
                <a:cubicBezTo>
                  <a:pt x="1647" y="10636"/>
                  <a:pt x="1688" y="10678"/>
                  <a:pt x="1761" y="10716"/>
                </a:cubicBezTo>
                <a:cubicBezTo>
                  <a:pt x="1814" y="10744"/>
                  <a:pt x="1843" y="10773"/>
                  <a:pt x="1885" y="10815"/>
                </a:cubicBezTo>
                <a:cubicBezTo>
                  <a:pt x="1929" y="10859"/>
                  <a:pt x="1957" y="10905"/>
                  <a:pt x="1960" y="10964"/>
                </a:cubicBezTo>
                <a:cubicBezTo>
                  <a:pt x="1963" y="11028"/>
                  <a:pt x="1948" y="11114"/>
                  <a:pt x="1910" y="11162"/>
                </a:cubicBezTo>
                <a:cubicBezTo>
                  <a:pt x="1853" y="11233"/>
                  <a:pt x="1815" y="11215"/>
                  <a:pt x="1736" y="11237"/>
                </a:cubicBezTo>
                <a:cubicBezTo>
                  <a:pt x="1669" y="11256"/>
                  <a:pt x="1580" y="11249"/>
                  <a:pt x="1513" y="11212"/>
                </a:cubicBezTo>
                <a:cubicBezTo>
                  <a:pt x="1438" y="11171"/>
                  <a:pt x="1417" y="11162"/>
                  <a:pt x="1439" y="11088"/>
                </a:cubicBezTo>
              </a:path>
              <a:path w="2382" h="1316">
                <a:moveTo>
                  <a:pt x="2158" y="11212"/>
                </a:moveTo>
                <a:cubicBezTo>
                  <a:pt x="2143" y="11327"/>
                  <a:pt x="2150" y="11420"/>
                  <a:pt x="2084" y="11509"/>
                </a:cubicBezTo>
                <a:cubicBezTo>
                  <a:pt x="2049" y="11555"/>
                  <a:pt x="2042" y="11592"/>
                  <a:pt x="2009" y="11633"/>
                </a:cubicBezTo>
                <a:cubicBezTo>
                  <a:pt x="1986" y="11656"/>
                  <a:pt x="1978" y="11660"/>
                  <a:pt x="1984" y="11683"/>
                </a:cubicBezTo>
              </a:path>
              <a:path w="2382" h="1316">
                <a:moveTo>
                  <a:pt x="2332" y="10740"/>
                </a:moveTo>
                <a:cubicBezTo>
                  <a:pt x="2415" y="10740"/>
                  <a:pt x="2497" y="10740"/>
                  <a:pt x="2580" y="10740"/>
                </a:cubicBezTo>
              </a:path>
              <a:path w="2382" h="1316">
                <a:moveTo>
                  <a:pt x="2952" y="10468"/>
                </a:moveTo>
                <a:cubicBezTo>
                  <a:pt x="2923" y="10562"/>
                  <a:pt x="2918" y="10601"/>
                  <a:pt x="2902" y="10691"/>
                </a:cubicBezTo>
                <a:cubicBezTo>
                  <a:pt x="2884" y="10790"/>
                  <a:pt x="2877" y="10863"/>
                  <a:pt x="2877" y="10964"/>
                </a:cubicBezTo>
                <a:cubicBezTo>
                  <a:pt x="2877" y="11025"/>
                  <a:pt x="2863" y="11086"/>
                  <a:pt x="2902" y="11112"/>
                </a:cubicBezTo>
              </a:path>
              <a:path w="2382" h="1316">
                <a:moveTo>
                  <a:pt x="3150" y="10443"/>
                </a:moveTo>
                <a:cubicBezTo>
                  <a:pt x="3176" y="10508"/>
                  <a:pt x="3136" y="10584"/>
                  <a:pt x="3125" y="10666"/>
                </a:cubicBezTo>
                <a:cubicBezTo>
                  <a:pt x="3114" y="10747"/>
                  <a:pt x="3104" y="10926"/>
                  <a:pt x="3150" y="10988"/>
                </a:cubicBezTo>
                <a:cubicBezTo>
                  <a:pt x="3189" y="11041"/>
                  <a:pt x="3225" y="11099"/>
                  <a:pt x="3299" y="11112"/>
                </a:cubicBezTo>
                <a:cubicBezTo>
                  <a:pt x="3370" y="11124"/>
                  <a:pt x="3423" y="11084"/>
                  <a:pt x="3473" y="11038"/>
                </a:cubicBezTo>
                <a:cubicBezTo>
                  <a:pt x="3534" y="10982"/>
                  <a:pt x="3543" y="10948"/>
                  <a:pt x="3547" y="10864"/>
                </a:cubicBezTo>
                <a:cubicBezTo>
                  <a:pt x="3551" y="10781"/>
                  <a:pt x="3549" y="10716"/>
                  <a:pt x="3522" y="10641"/>
                </a:cubicBezTo>
                <a:cubicBezTo>
                  <a:pt x="3496" y="10566"/>
                  <a:pt x="3478" y="10523"/>
                  <a:pt x="3423" y="10468"/>
                </a:cubicBezTo>
                <a:cubicBezTo>
                  <a:pt x="3384" y="10429"/>
                  <a:pt x="3339" y="10373"/>
                  <a:pt x="3274" y="10393"/>
                </a:cubicBezTo>
                <a:cubicBezTo>
                  <a:pt x="3216" y="10411"/>
                  <a:pt x="3206" y="10497"/>
                  <a:pt x="3200" y="10542"/>
                </a:cubicBezTo>
              </a:path>
              <a:path w="2382" h="1316">
                <a:moveTo>
                  <a:pt x="3795" y="11112"/>
                </a:moveTo>
                <a:cubicBezTo>
                  <a:pt x="3762" y="11187"/>
                  <a:pt x="3733" y="11262"/>
                  <a:pt x="3696" y="11336"/>
                </a:cubicBezTo>
                <a:cubicBezTo>
                  <a:pt x="3671" y="11386"/>
                  <a:pt x="3633" y="11436"/>
                  <a:pt x="3621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Ink 5"/>
          <p:cNvSpPr/>
          <p:nvPr/>
        </p:nvSpPr>
        <p:spPr>
          <a:xfrm>
            <a:off x="1527120" y="3714840"/>
            <a:ext cx="1135080" cy="446040"/>
          </a:xfrm>
          <a:custGeom>
            <a:avLst/>
            <a:gdLst/>
            <a:ahLst/>
            <a:rect l="l" t="t" r="r" b="b"/>
            <a:pathLst>
              <a:path w="3151" h="1241">
                <a:moveTo>
                  <a:pt x="4266" y="10542"/>
                </a:moveTo>
                <a:cubicBezTo>
                  <a:pt x="4206" y="10604"/>
                  <a:pt x="4322" y="10509"/>
                  <a:pt x="4341" y="10492"/>
                </a:cubicBezTo>
                <a:cubicBezTo>
                  <a:pt x="4374" y="10463"/>
                  <a:pt x="4467" y="10402"/>
                  <a:pt x="4514" y="10418"/>
                </a:cubicBezTo>
                <a:cubicBezTo>
                  <a:pt x="4593" y="10445"/>
                  <a:pt x="4589" y="10495"/>
                  <a:pt x="4589" y="10567"/>
                </a:cubicBezTo>
                <a:cubicBezTo>
                  <a:pt x="4589" y="10633"/>
                  <a:pt x="4566" y="10712"/>
                  <a:pt x="4539" y="10765"/>
                </a:cubicBezTo>
                <a:cubicBezTo>
                  <a:pt x="4492" y="10859"/>
                  <a:pt x="4442" y="10950"/>
                  <a:pt x="4390" y="11038"/>
                </a:cubicBezTo>
                <a:cubicBezTo>
                  <a:pt x="4382" y="11055"/>
                  <a:pt x="4374" y="11071"/>
                  <a:pt x="4366" y="11088"/>
                </a:cubicBezTo>
                <a:cubicBezTo>
                  <a:pt x="4425" y="11123"/>
                  <a:pt x="4490" y="11112"/>
                  <a:pt x="4564" y="11112"/>
                </a:cubicBezTo>
                <a:cubicBezTo>
                  <a:pt x="4642" y="11112"/>
                  <a:pt x="4684" y="11137"/>
                  <a:pt x="4762" y="11112"/>
                </a:cubicBezTo>
                <a:cubicBezTo>
                  <a:pt x="4779" y="11104"/>
                  <a:pt x="4795" y="11096"/>
                  <a:pt x="4812" y="11088"/>
                </a:cubicBezTo>
              </a:path>
              <a:path w="3151" h="1241">
                <a:moveTo>
                  <a:pt x="4961" y="10517"/>
                </a:moveTo>
                <a:cubicBezTo>
                  <a:pt x="4952" y="10580"/>
                  <a:pt x="4922" y="10626"/>
                  <a:pt x="4911" y="10691"/>
                </a:cubicBezTo>
                <a:cubicBezTo>
                  <a:pt x="4900" y="10753"/>
                  <a:pt x="4873" y="10823"/>
                  <a:pt x="4887" y="10889"/>
                </a:cubicBezTo>
                <a:cubicBezTo>
                  <a:pt x="4904" y="10971"/>
                  <a:pt x="4968" y="11092"/>
                  <a:pt x="5060" y="11112"/>
                </a:cubicBezTo>
                <a:cubicBezTo>
                  <a:pt x="5132" y="11127"/>
                  <a:pt x="5189" y="11135"/>
                  <a:pt x="5259" y="11112"/>
                </a:cubicBezTo>
                <a:cubicBezTo>
                  <a:pt x="5343" y="11085"/>
                  <a:pt x="5394" y="10998"/>
                  <a:pt x="5407" y="10914"/>
                </a:cubicBezTo>
                <a:cubicBezTo>
                  <a:pt x="5419" y="10835"/>
                  <a:pt x="5395" y="10756"/>
                  <a:pt x="5383" y="10691"/>
                </a:cubicBezTo>
                <a:cubicBezTo>
                  <a:pt x="5370" y="10619"/>
                  <a:pt x="5360" y="10595"/>
                  <a:pt x="5308" y="10542"/>
                </a:cubicBezTo>
                <a:cubicBezTo>
                  <a:pt x="5271" y="10505"/>
                  <a:pt x="5215" y="10428"/>
                  <a:pt x="5159" y="10418"/>
                </a:cubicBezTo>
                <a:cubicBezTo>
                  <a:pt x="5097" y="10407"/>
                  <a:pt x="5000" y="10438"/>
                  <a:pt x="4961" y="10492"/>
                </a:cubicBezTo>
                <a:cubicBezTo>
                  <a:pt x="4926" y="10540"/>
                  <a:pt x="4936" y="10586"/>
                  <a:pt x="4936" y="10641"/>
                </a:cubicBezTo>
              </a:path>
              <a:path w="3151" h="1241">
                <a:moveTo>
                  <a:pt x="5655" y="11237"/>
                </a:moveTo>
                <a:cubicBezTo>
                  <a:pt x="5636" y="11300"/>
                  <a:pt x="5592" y="11379"/>
                  <a:pt x="5581" y="11435"/>
                </a:cubicBezTo>
                <a:cubicBezTo>
                  <a:pt x="5570" y="11492"/>
                  <a:pt x="5524" y="11553"/>
                  <a:pt x="5581" y="11534"/>
                </a:cubicBezTo>
              </a:path>
              <a:path w="3151" h="1241">
                <a:moveTo>
                  <a:pt x="6003" y="10765"/>
                </a:moveTo>
                <a:cubicBezTo>
                  <a:pt x="6053" y="10765"/>
                  <a:pt x="6102" y="10765"/>
                  <a:pt x="6152" y="10765"/>
                </a:cubicBezTo>
              </a:path>
              <a:path w="3151" h="1241">
                <a:moveTo>
                  <a:pt x="6424" y="10517"/>
                </a:moveTo>
                <a:cubicBezTo>
                  <a:pt x="6380" y="10573"/>
                  <a:pt x="6354" y="10619"/>
                  <a:pt x="6350" y="10691"/>
                </a:cubicBezTo>
                <a:cubicBezTo>
                  <a:pt x="6344" y="10792"/>
                  <a:pt x="6360" y="10796"/>
                  <a:pt x="6449" y="10840"/>
                </a:cubicBezTo>
                <a:cubicBezTo>
                  <a:pt x="6549" y="10889"/>
                  <a:pt x="6593" y="10893"/>
                  <a:pt x="6697" y="10864"/>
                </a:cubicBezTo>
              </a:path>
              <a:path w="3151" h="1241">
                <a:moveTo>
                  <a:pt x="6672" y="10319"/>
                </a:moveTo>
                <a:cubicBezTo>
                  <a:pt x="6621" y="10422"/>
                  <a:pt x="6623" y="10477"/>
                  <a:pt x="6623" y="10592"/>
                </a:cubicBezTo>
                <a:cubicBezTo>
                  <a:pt x="6623" y="10754"/>
                  <a:pt x="6577" y="11025"/>
                  <a:pt x="6648" y="11162"/>
                </a:cubicBezTo>
                <a:cubicBezTo>
                  <a:pt x="6669" y="11206"/>
                  <a:pt x="6672" y="11227"/>
                  <a:pt x="6697" y="11187"/>
                </a:cubicBezTo>
              </a:path>
              <a:path w="3151" h="1241">
                <a:moveTo>
                  <a:pt x="6921" y="10542"/>
                </a:moveTo>
                <a:cubicBezTo>
                  <a:pt x="6912" y="10621"/>
                  <a:pt x="6874" y="10687"/>
                  <a:pt x="6871" y="10765"/>
                </a:cubicBezTo>
                <a:cubicBezTo>
                  <a:pt x="6868" y="10832"/>
                  <a:pt x="6869" y="10929"/>
                  <a:pt x="6896" y="10988"/>
                </a:cubicBezTo>
                <a:cubicBezTo>
                  <a:pt x="6917" y="11033"/>
                  <a:pt x="6964" y="11096"/>
                  <a:pt x="6995" y="11137"/>
                </a:cubicBezTo>
                <a:cubicBezTo>
                  <a:pt x="7039" y="11195"/>
                  <a:pt x="7150" y="11228"/>
                  <a:pt x="7218" y="11212"/>
                </a:cubicBezTo>
                <a:cubicBezTo>
                  <a:pt x="7264" y="11201"/>
                  <a:pt x="7351" y="11077"/>
                  <a:pt x="7367" y="11038"/>
                </a:cubicBezTo>
                <a:cubicBezTo>
                  <a:pt x="7394" y="10973"/>
                  <a:pt x="7409" y="10861"/>
                  <a:pt x="7392" y="10790"/>
                </a:cubicBezTo>
                <a:cubicBezTo>
                  <a:pt x="7376" y="10722"/>
                  <a:pt x="7332" y="10659"/>
                  <a:pt x="7317" y="10592"/>
                </a:cubicBezTo>
                <a:cubicBezTo>
                  <a:pt x="7297" y="10503"/>
                  <a:pt x="7286" y="10486"/>
                  <a:pt x="7218" y="10418"/>
                </a:cubicBezTo>
                <a:cubicBezTo>
                  <a:pt x="7176" y="10376"/>
                  <a:pt x="7129" y="10349"/>
                  <a:pt x="7069" y="10344"/>
                </a:cubicBezTo>
                <a:cubicBezTo>
                  <a:pt x="7028" y="10344"/>
                  <a:pt x="6986" y="10344"/>
                  <a:pt x="6945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Ink 6"/>
          <p:cNvSpPr/>
          <p:nvPr/>
        </p:nvSpPr>
        <p:spPr>
          <a:xfrm>
            <a:off x="411120" y="4160880"/>
            <a:ext cx="2054160" cy="581040"/>
          </a:xfrm>
          <a:custGeom>
            <a:avLst/>
            <a:gdLst/>
            <a:ahLst/>
            <a:rect l="l" t="t" r="r" b="b"/>
            <a:pathLst>
              <a:path w="5706" h="1613">
                <a:moveTo>
                  <a:pt x="1736" y="12402"/>
                </a:moveTo>
                <a:cubicBezTo>
                  <a:pt x="1729" y="12428"/>
                  <a:pt x="1712" y="12654"/>
                  <a:pt x="1712" y="12526"/>
                </a:cubicBezTo>
                <a:cubicBezTo>
                  <a:pt x="1712" y="12448"/>
                  <a:pt x="1707" y="12330"/>
                  <a:pt x="1687" y="12254"/>
                </a:cubicBezTo>
                <a:cubicBezTo>
                  <a:pt x="1673" y="12202"/>
                  <a:pt x="1659" y="12123"/>
                  <a:pt x="1637" y="12080"/>
                </a:cubicBezTo>
                <a:cubicBezTo>
                  <a:pt x="1610" y="12026"/>
                  <a:pt x="1578" y="11992"/>
                  <a:pt x="1538" y="11956"/>
                </a:cubicBezTo>
                <a:cubicBezTo>
                  <a:pt x="1487" y="11910"/>
                  <a:pt x="1420" y="11948"/>
                  <a:pt x="1364" y="11981"/>
                </a:cubicBezTo>
                <a:cubicBezTo>
                  <a:pt x="1316" y="12009"/>
                  <a:pt x="1261" y="12139"/>
                  <a:pt x="1240" y="12179"/>
                </a:cubicBezTo>
                <a:cubicBezTo>
                  <a:pt x="1203" y="12250"/>
                  <a:pt x="1177" y="12323"/>
                  <a:pt x="1166" y="12402"/>
                </a:cubicBezTo>
                <a:cubicBezTo>
                  <a:pt x="1154" y="12483"/>
                  <a:pt x="1158" y="12557"/>
                  <a:pt x="1166" y="12626"/>
                </a:cubicBezTo>
                <a:cubicBezTo>
                  <a:pt x="1174" y="12701"/>
                  <a:pt x="1202" y="12736"/>
                  <a:pt x="1240" y="12799"/>
                </a:cubicBezTo>
                <a:cubicBezTo>
                  <a:pt x="1266" y="12842"/>
                  <a:pt x="1309" y="12912"/>
                  <a:pt x="1364" y="12923"/>
                </a:cubicBezTo>
                <a:cubicBezTo>
                  <a:pt x="1423" y="12935"/>
                  <a:pt x="1518" y="12933"/>
                  <a:pt x="1563" y="12898"/>
                </a:cubicBezTo>
                <a:cubicBezTo>
                  <a:pt x="1620" y="12854"/>
                  <a:pt x="1611" y="12826"/>
                  <a:pt x="1637" y="12774"/>
                </a:cubicBezTo>
                <a:cubicBezTo>
                  <a:pt x="1669" y="12710"/>
                  <a:pt x="1708" y="12679"/>
                  <a:pt x="1712" y="12601"/>
                </a:cubicBezTo>
                <a:cubicBezTo>
                  <a:pt x="1719" y="12468"/>
                  <a:pt x="1708" y="12676"/>
                  <a:pt x="1712" y="12700"/>
                </a:cubicBezTo>
                <a:cubicBezTo>
                  <a:pt x="1727" y="12789"/>
                  <a:pt x="1726" y="12839"/>
                  <a:pt x="1786" y="12898"/>
                </a:cubicBezTo>
                <a:cubicBezTo>
                  <a:pt x="1809" y="12921"/>
                  <a:pt x="1813" y="12929"/>
                  <a:pt x="1836" y="12923"/>
                </a:cubicBezTo>
              </a:path>
              <a:path w="5706" h="1613">
                <a:moveTo>
                  <a:pt x="1860" y="12700"/>
                </a:moveTo>
                <a:cubicBezTo>
                  <a:pt x="1860" y="12824"/>
                  <a:pt x="1860" y="12948"/>
                  <a:pt x="1860" y="13072"/>
                </a:cubicBezTo>
                <a:cubicBezTo>
                  <a:pt x="1885" y="12987"/>
                  <a:pt x="1870" y="12910"/>
                  <a:pt x="1885" y="12824"/>
                </a:cubicBezTo>
                <a:cubicBezTo>
                  <a:pt x="1898" y="12753"/>
                  <a:pt x="1910" y="12717"/>
                  <a:pt x="1910" y="12650"/>
                </a:cubicBezTo>
                <a:cubicBezTo>
                  <a:pt x="1949" y="12656"/>
                  <a:pt x="2019" y="12673"/>
                  <a:pt x="2034" y="12725"/>
                </a:cubicBezTo>
                <a:cubicBezTo>
                  <a:pt x="2051" y="12784"/>
                  <a:pt x="2066" y="12835"/>
                  <a:pt x="2084" y="12898"/>
                </a:cubicBezTo>
                <a:cubicBezTo>
                  <a:pt x="2110" y="12990"/>
                  <a:pt x="2099" y="13049"/>
                  <a:pt x="2158" y="13122"/>
                </a:cubicBezTo>
              </a:path>
              <a:path w="5706" h="1613">
                <a:moveTo>
                  <a:pt x="2307" y="12378"/>
                </a:moveTo>
                <a:cubicBezTo>
                  <a:pt x="2377" y="12351"/>
                  <a:pt x="2429" y="12353"/>
                  <a:pt x="2505" y="12353"/>
                </a:cubicBezTo>
              </a:path>
              <a:path w="5706" h="1613">
                <a:moveTo>
                  <a:pt x="2356" y="12526"/>
                </a:moveTo>
                <a:cubicBezTo>
                  <a:pt x="2445" y="12526"/>
                  <a:pt x="2555" y="12545"/>
                  <a:pt x="2629" y="12502"/>
                </a:cubicBezTo>
              </a:path>
              <a:path w="5706" h="1613">
                <a:moveTo>
                  <a:pt x="2977" y="12030"/>
                </a:moveTo>
                <a:cubicBezTo>
                  <a:pt x="3075" y="12030"/>
                  <a:pt x="3166" y="12030"/>
                  <a:pt x="3249" y="12005"/>
                </a:cubicBezTo>
                <a:cubicBezTo>
                  <a:pt x="3257" y="12005"/>
                  <a:pt x="3266" y="12005"/>
                  <a:pt x="3274" y="12005"/>
                </a:cubicBezTo>
              </a:path>
              <a:path w="5706" h="1613">
                <a:moveTo>
                  <a:pt x="2977" y="12080"/>
                </a:moveTo>
                <a:cubicBezTo>
                  <a:pt x="2966" y="12129"/>
                  <a:pt x="2913" y="12272"/>
                  <a:pt x="3001" y="12303"/>
                </a:cubicBezTo>
                <a:cubicBezTo>
                  <a:pt x="3048" y="12320"/>
                  <a:pt x="3143" y="12278"/>
                  <a:pt x="3200" y="12278"/>
                </a:cubicBezTo>
                <a:cubicBezTo>
                  <a:pt x="3260" y="12278"/>
                  <a:pt x="3315" y="12299"/>
                  <a:pt x="3349" y="12353"/>
                </a:cubicBezTo>
                <a:cubicBezTo>
                  <a:pt x="3391" y="12419"/>
                  <a:pt x="3420" y="12471"/>
                  <a:pt x="3423" y="12551"/>
                </a:cubicBezTo>
                <a:cubicBezTo>
                  <a:pt x="3426" y="12614"/>
                  <a:pt x="3425" y="12698"/>
                  <a:pt x="3398" y="12750"/>
                </a:cubicBezTo>
                <a:cubicBezTo>
                  <a:pt x="3375" y="12794"/>
                  <a:pt x="3336" y="12838"/>
                  <a:pt x="3299" y="12874"/>
                </a:cubicBezTo>
                <a:cubicBezTo>
                  <a:pt x="3267" y="12905"/>
                  <a:pt x="3192" y="12993"/>
                  <a:pt x="3150" y="12973"/>
                </a:cubicBezTo>
                <a:cubicBezTo>
                  <a:pt x="3130" y="12963"/>
                  <a:pt x="2985" y="12872"/>
                  <a:pt x="2977" y="12849"/>
                </a:cubicBezTo>
                <a:cubicBezTo>
                  <a:pt x="2977" y="12807"/>
                  <a:pt x="2977" y="12799"/>
                  <a:pt x="2977" y="12774"/>
                </a:cubicBezTo>
              </a:path>
              <a:path w="5706" h="1613">
                <a:moveTo>
                  <a:pt x="3746" y="12353"/>
                </a:moveTo>
                <a:cubicBezTo>
                  <a:pt x="3776" y="12415"/>
                  <a:pt x="3703" y="12395"/>
                  <a:pt x="3746" y="12452"/>
                </a:cubicBezTo>
                <a:cubicBezTo>
                  <a:pt x="3786" y="12505"/>
                  <a:pt x="3834" y="12421"/>
                  <a:pt x="3820" y="12378"/>
                </a:cubicBezTo>
                <a:cubicBezTo>
                  <a:pt x="3804" y="12331"/>
                  <a:pt x="3757" y="12333"/>
                  <a:pt x="3721" y="12328"/>
                </a:cubicBezTo>
                <a:cubicBezTo>
                  <a:pt x="3731" y="12394"/>
                  <a:pt x="3743" y="12446"/>
                  <a:pt x="3820" y="12402"/>
                </a:cubicBezTo>
                <a:cubicBezTo>
                  <a:pt x="3871" y="12373"/>
                  <a:pt x="3840" y="12297"/>
                  <a:pt x="3795" y="12303"/>
                </a:cubicBezTo>
                <a:cubicBezTo>
                  <a:pt x="3736" y="12312"/>
                  <a:pt x="3665" y="12427"/>
                  <a:pt x="3770" y="12427"/>
                </a:cubicBezTo>
                <a:cubicBezTo>
                  <a:pt x="3787" y="12419"/>
                  <a:pt x="3803" y="12410"/>
                  <a:pt x="3820" y="12402"/>
                </a:cubicBezTo>
                <a:cubicBezTo>
                  <a:pt x="3845" y="12361"/>
                  <a:pt x="3863" y="12272"/>
                  <a:pt x="3770" y="12303"/>
                </a:cubicBezTo>
                <a:cubicBezTo>
                  <a:pt x="3746" y="12328"/>
                  <a:pt x="3738" y="12337"/>
                  <a:pt x="3721" y="12353"/>
                </a:cubicBezTo>
              </a:path>
              <a:path w="5706" h="1613">
                <a:moveTo>
                  <a:pt x="4316" y="12005"/>
                </a:moveTo>
                <a:cubicBezTo>
                  <a:pt x="4265" y="12082"/>
                  <a:pt x="4246" y="12174"/>
                  <a:pt x="4217" y="12254"/>
                </a:cubicBezTo>
                <a:cubicBezTo>
                  <a:pt x="4191" y="12325"/>
                  <a:pt x="4152" y="12403"/>
                  <a:pt x="4142" y="12477"/>
                </a:cubicBezTo>
                <a:cubicBezTo>
                  <a:pt x="4132" y="12551"/>
                  <a:pt x="4147" y="12657"/>
                  <a:pt x="4167" y="12725"/>
                </a:cubicBezTo>
                <a:cubicBezTo>
                  <a:pt x="4185" y="12789"/>
                  <a:pt x="4241" y="12841"/>
                  <a:pt x="4266" y="12898"/>
                </a:cubicBezTo>
                <a:cubicBezTo>
                  <a:pt x="4297" y="12968"/>
                  <a:pt x="4314" y="13016"/>
                  <a:pt x="4390" y="13047"/>
                </a:cubicBezTo>
                <a:cubicBezTo>
                  <a:pt x="4398" y="13047"/>
                  <a:pt x="4407" y="13047"/>
                  <a:pt x="4415" y="13047"/>
                </a:cubicBezTo>
              </a:path>
              <a:path w="5706" h="1613">
                <a:moveTo>
                  <a:pt x="4390" y="12402"/>
                </a:moveTo>
                <a:cubicBezTo>
                  <a:pt x="4480" y="12402"/>
                  <a:pt x="4555" y="12408"/>
                  <a:pt x="4638" y="12378"/>
                </a:cubicBezTo>
              </a:path>
              <a:path w="5706" h="1613">
                <a:moveTo>
                  <a:pt x="4738" y="12105"/>
                </a:moveTo>
                <a:cubicBezTo>
                  <a:pt x="4828" y="12080"/>
                  <a:pt x="4863" y="12064"/>
                  <a:pt x="4936" y="12129"/>
                </a:cubicBezTo>
                <a:cubicBezTo>
                  <a:pt x="4989" y="12176"/>
                  <a:pt x="4983" y="12215"/>
                  <a:pt x="5011" y="12278"/>
                </a:cubicBezTo>
                <a:cubicBezTo>
                  <a:pt x="5041" y="12346"/>
                  <a:pt x="5035" y="12403"/>
                  <a:pt x="5035" y="12477"/>
                </a:cubicBezTo>
                <a:cubicBezTo>
                  <a:pt x="5035" y="12543"/>
                  <a:pt x="5013" y="12615"/>
                  <a:pt x="4986" y="12675"/>
                </a:cubicBezTo>
                <a:cubicBezTo>
                  <a:pt x="4959" y="12735"/>
                  <a:pt x="4930" y="12800"/>
                  <a:pt x="4887" y="12849"/>
                </a:cubicBezTo>
                <a:cubicBezTo>
                  <a:pt x="4859" y="12877"/>
                  <a:pt x="4845" y="12886"/>
                  <a:pt x="4812" y="12874"/>
                </a:cubicBezTo>
                <a:cubicBezTo>
                  <a:pt x="4786" y="12830"/>
                  <a:pt x="4771" y="12757"/>
                  <a:pt x="4787" y="12700"/>
                </a:cubicBezTo>
                <a:cubicBezTo>
                  <a:pt x="4809" y="12622"/>
                  <a:pt x="4848" y="12601"/>
                  <a:pt x="4911" y="12626"/>
                </a:cubicBezTo>
                <a:cubicBezTo>
                  <a:pt x="4969" y="12649"/>
                  <a:pt x="5011" y="12715"/>
                  <a:pt x="5035" y="12774"/>
                </a:cubicBezTo>
                <a:cubicBezTo>
                  <a:pt x="5067" y="12853"/>
                  <a:pt x="5095" y="12859"/>
                  <a:pt x="5135" y="12923"/>
                </a:cubicBezTo>
                <a:cubicBezTo>
                  <a:pt x="5183" y="13000"/>
                  <a:pt x="5171" y="12961"/>
                  <a:pt x="5184" y="12898"/>
                </a:cubicBezTo>
              </a:path>
              <a:path w="5706" h="1613">
                <a:moveTo>
                  <a:pt x="5209" y="11931"/>
                </a:moveTo>
                <a:cubicBezTo>
                  <a:pt x="5269" y="12000"/>
                  <a:pt x="5296" y="12047"/>
                  <a:pt x="5333" y="12129"/>
                </a:cubicBezTo>
                <a:cubicBezTo>
                  <a:pt x="5373" y="12218"/>
                  <a:pt x="5401" y="12310"/>
                  <a:pt x="5432" y="12402"/>
                </a:cubicBezTo>
                <a:cubicBezTo>
                  <a:pt x="5463" y="12496"/>
                  <a:pt x="5478" y="12601"/>
                  <a:pt x="5482" y="12700"/>
                </a:cubicBezTo>
                <a:cubicBezTo>
                  <a:pt x="5485" y="12778"/>
                  <a:pt x="5466" y="12901"/>
                  <a:pt x="5432" y="12973"/>
                </a:cubicBezTo>
                <a:cubicBezTo>
                  <a:pt x="5411" y="13018"/>
                  <a:pt x="5369" y="13061"/>
                  <a:pt x="5333" y="13097"/>
                </a:cubicBezTo>
                <a:cubicBezTo>
                  <a:pt x="5293" y="13137"/>
                  <a:pt x="5230" y="13157"/>
                  <a:pt x="5184" y="13171"/>
                </a:cubicBezTo>
                <a:cubicBezTo>
                  <a:pt x="5176" y="13171"/>
                  <a:pt x="5167" y="13171"/>
                  <a:pt x="5159" y="13171"/>
                </a:cubicBezTo>
              </a:path>
              <a:path w="5706" h="1613">
                <a:moveTo>
                  <a:pt x="5631" y="11633"/>
                </a:moveTo>
                <a:cubicBezTo>
                  <a:pt x="5578" y="11686"/>
                  <a:pt x="5543" y="11758"/>
                  <a:pt x="5531" y="11832"/>
                </a:cubicBezTo>
                <a:cubicBezTo>
                  <a:pt x="5521" y="11892"/>
                  <a:pt x="5546" y="11986"/>
                  <a:pt x="5581" y="12030"/>
                </a:cubicBezTo>
                <a:cubicBezTo>
                  <a:pt x="5606" y="12055"/>
                  <a:pt x="5614" y="12063"/>
                  <a:pt x="5631" y="12080"/>
                </a:cubicBezTo>
              </a:path>
              <a:path w="5706" h="1613">
                <a:moveTo>
                  <a:pt x="5755" y="11906"/>
                </a:moveTo>
                <a:cubicBezTo>
                  <a:pt x="5755" y="11956"/>
                  <a:pt x="5755" y="12005"/>
                  <a:pt x="5755" y="12055"/>
                </a:cubicBezTo>
                <a:cubicBezTo>
                  <a:pt x="5790" y="12019"/>
                  <a:pt x="5820" y="11975"/>
                  <a:pt x="5829" y="11931"/>
                </a:cubicBezTo>
                <a:cubicBezTo>
                  <a:pt x="5840" y="11876"/>
                  <a:pt x="5843" y="11827"/>
                  <a:pt x="5879" y="11782"/>
                </a:cubicBezTo>
                <a:cubicBezTo>
                  <a:pt x="5887" y="11774"/>
                  <a:pt x="5896" y="11765"/>
                  <a:pt x="5904" y="11757"/>
                </a:cubicBezTo>
                <a:cubicBezTo>
                  <a:pt x="5944" y="11798"/>
                  <a:pt x="5969" y="11836"/>
                  <a:pt x="6003" y="11881"/>
                </a:cubicBezTo>
                <a:cubicBezTo>
                  <a:pt x="6044" y="11935"/>
                  <a:pt x="6024" y="11977"/>
                  <a:pt x="6077" y="12030"/>
                </a:cubicBezTo>
                <a:cubicBezTo>
                  <a:pt x="6085" y="12038"/>
                  <a:pt x="6094" y="12047"/>
                  <a:pt x="6102" y="12055"/>
                </a:cubicBezTo>
              </a:path>
              <a:path w="5706" h="1613">
                <a:moveTo>
                  <a:pt x="6176" y="11881"/>
                </a:moveTo>
                <a:cubicBezTo>
                  <a:pt x="6253" y="11890"/>
                  <a:pt x="6321" y="11906"/>
                  <a:pt x="6400" y="11906"/>
                </a:cubicBezTo>
              </a:path>
              <a:path w="5706" h="1613">
                <a:moveTo>
                  <a:pt x="6524" y="11708"/>
                </a:moveTo>
                <a:cubicBezTo>
                  <a:pt x="6524" y="11813"/>
                  <a:pt x="6532" y="11906"/>
                  <a:pt x="6548" y="12005"/>
                </a:cubicBezTo>
                <a:cubicBezTo>
                  <a:pt x="6548" y="12047"/>
                  <a:pt x="6540" y="12063"/>
                  <a:pt x="6573" y="12055"/>
                </a:cubicBezTo>
              </a:path>
              <a:path w="5706" h="1613">
                <a:moveTo>
                  <a:pt x="6648" y="11559"/>
                </a:moveTo>
                <a:cubicBezTo>
                  <a:pt x="6689" y="11601"/>
                  <a:pt x="6719" y="11631"/>
                  <a:pt x="6747" y="11683"/>
                </a:cubicBezTo>
                <a:cubicBezTo>
                  <a:pt x="6774" y="11733"/>
                  <a:pt x="6809" y="11825"/>
                  <a:pt x="6821" y="11881"/>
                </a:cubicBezTo>
                <a:cubicBezTo>
                  <a:pt x="6841" y="11969"/>
                  <a:pt x="6835" y="12019"/>
                  <a:pt x="6821" y="12105"/>
                </a:cubicBezTo>
                <a:cubicBezTo>
                  <a:pt x="6811" y="12167"/>
                  <a:pt x="6783" y="12164"/>
                  <a:pt x="6722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Ink 7"/>
          <p:cNvSpPr/>
          <p:nvPr/>
        </p:nvSpPr>
        <p:spPr>
          <a:xfrm>
            <a:off x="2894040" y="3490920"/>
            <a:ext cx="436680" cy="2430360"/>
          </a:xfrm>
          <a:custGeom>
            <a:avLst/>
            <a:gdLst/>
            <a:ahLst/>
            <a:rect l="l" t="t" r="r" b="b"/>
            <a:pathLst>
              <a:path w="1216" h="6748">
                <a:moveTo>
                  <a:pt x="8037" y="9723"/>
                </a:moveTo>
                <a:cubicBezTo>
                  <a:pt x="8095" y="9726"/>
                  <a:pt x="8184" y="9703"/>
                  <a:pt x="8260" y="9723"/>
                </a:cubicBezTo>
                <a:cubicBezTo>
                  <a:pt x="8389" y="9757"/>
                  <a:pt x="8495" y="9830"/>
                  <a:pt x="8607" y="9897"/>
                </a:cubicBezTo>
                <a:cubicBezTo>
                  <a:pt x="8746" y="9980"/>
                  <a:pt x="8887" y="10053"/>
                  <a:pt x="9004" y="10170"/>
                </a:cubicBezTo>
                <a:cubicBezTo>
                  <a:pt x="9085" y="10251"/>
                  <a:pt x="9112" y="10314"/>
                  <a:pt x="9128" y="10418"/>
                </a:cubicBezTo>
                <a:cubicBezTo>
                  <a:pt x="9141" y="10501"/>
                  <a:pt x="9128" y="10582"/>
                  <a:pt x="9079" y="10666"/>
                </a:cubicBezTo>
                <a:cubicBezTo>
                  <a:pt x="9004" y="10796"/>
                  <a:pt x="8879" y="10901"/>
                  <a:pt x="8781" y="11013"/>
                </a:cubicBezTo>
                <a:cubicBezTo>
                  <a:pt x="8685" y="11123"/>
                  <a:pt x="8586" y="11236"/>
                  <a:pt x="8508" y="11361"/>
                </a:cubicBezTo>
                <a:cubicBezTo>
                  <a:pt x="8439" y="11471"/>
                  <a:pt x="8368" y="11609"/>
                  <a:pt x="8334" y="11733"/>
                </a:cubicBezTo>
                <a:cubicBezTo>
                  <a:pt x="8291" y="11890"/>
                  <a:pt x="8310" y="12007"/>
                  <a:pt x="8359" y="12154"/>
                </a:cubicBezTo>
                <a:cubicBezTo>
                  <a:pt x="8397" y="12270"/>
                  <a:pt x="8477" y="12386"/>
                  <a:pt x="8558" y="12477"/>
                </a:cubicBezTo>
                <a:cubicBezTo>
                  <a:pt x="8655" y="12586"/>
                  <a:pt x="8755" y="12693"/>
                  <a:pt x="8855" y="12799"/>
                </a:cubicBezTo>
                <a:cubicBezTo>
                  <a:pt x="9018" y="12973"/>
                  <a:pt x="9118" y="13178"/>
                  <a:pt x="9203" y="13395"/>
                </a:cubicBezTo>
                <a:cubicBezTo>
                  <a:pt x="9250" y="13516"/>
                  <a:pt x="9242" y="13571"/>
                  <a:pt x="9227" y="13692"/>
                </a:cubicBezTo>
                <a:cubicBezTo>
                  <a:pt x="9214" y="13804"/>
                  <a:pt x="9181" y="13845"/>
                  <a:pt x="9128" y="13940"/>
                </a:cubicBezTo>
                <a:cubicBezTo>
                  <a:pt x="9071" y="14042"/>
                  <a:pt x="9004" y="14100"/>
                  <a:pt x="8930" y="14188"/>
                </a:cubicBezTo>
                <a:cubicBezTo>
                  <a:pt x="8831" y="14304"/>
                  <a:pt x="8755" y="14426"/>
                  <a:pt x="8682" y="14560"/>
                </a:cubicBezTo>
                <a:cubicBezTo>
                  <a:pt x="8620" y="14675"/>
                  <a:pt x="8570" y="14781"/>
                  <a:pt x="8533" y="14908"/>
                </a:cubicBezTo>
                <a:cubicBezTo>
                  <a:pt x="8489" y="15058"/>
                  <a:pt x="8460" y="15192"/>
                  <a:pt x="8458" y="15354"/>
                </a:cubicBezTo>
                <a:cubicBezTo>
                  <a:pt x="8455" y="15554"/>
                  <a:pt x="8459" y="15833"/>
                  <a:pt x="8533" y="16024"/>
                </a:cubicBezTo>
                <a:cubicBezTo>
                  <a:pt x="8589" y="16168"/>
                  <a:pt x="8685" y="16308"/>
                  <a:pt x="8756" y="164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Ink 8"/>
          <p:cNvSpPr/>
          <p:nvPr/>
        </p:nvSpPr>
        <p:spPr>
          <a:xfrm>
            <a:off x="3643200" y="3527280"/>
            <a:ext cx="1965600" cy="669960"/>
          </a:xfrm>
          <a:custGeom>
            <a:avLst/>
            <a:gdLst/>
            <a:ahLst/>
            <a:rect l="l" t="t" r="r" b="b"/>
            <a:pathLst>
              <a:path w="5458" h="1861">
                <a:moveTo>
                  <a:pt x="10120" y="10319"/>
                </a:moveTo>
                <a:cubicBezTo>
                  <a:pt x="10146" y="10387"/>
                  <a:pt x="10160" y="10469"/>
                  <a:pt x="10170" y="10542"/>
                </a:cubicBezTo>
                <a:cubicBezTo>
                  <a:pt x="10181" y="10622"/>
                  <a:pt x="10164" y="10696"/>
                  <a:pt x="10170" y="10765"/>
                </a:cubicBezTo>
                <a:cubicBezTo>
                  <a:pt x="10178" y="10853"/>
                  <a:pt x="10180" y="10937"/>
                  <a:pt x="10195" y="11013"/>
                </a:cubicBezTo>
                <a:cubicBezTo>
                  <a:pt x="10207" y="11071"/>
                  <a:pt x="10190" y="11088"/>
                  <a:pt x="10220" y="11137"/>
                </a:cubicBezTo>
                <a:cubicBezTo>
                  <a:pt x="10249" y="11107"/>
                  <a:pt x="10260" y="11093"/>
                  <a:pt x="10269" y="11063"/>
                </a:cubicBezTo>
              </a:path>
              <a:path w="5458" h="1861">
                <a:moveTo>
                  <a:pt x="10393" y="10393"/>
                </a:moveTo>
                <a:cubicBezTo>
                  <a:pt x="10374" y="10489"/>
                  <a:pt x="10368" y="10569"/>
                  <a:pt x="10368" y="10666"/>
                </a:cubicBezTo>
                <a:cubicBezTo>
                  <a:pt x="10368" y="10762"/>
                  <a:pt x="10371" y="10787"/>
                  <a:pt x="10418" y="10864"/>
                </a:cubicBezTo>
                <a:cubicBezTo>
                  <a:pt x="10462" y="10937"/>
                  <a:pt x="10501" y="10929"/>
                  <a:pt x="10567" y="10964"/>
                </a:cubicBezTo>
                <a:cubicBezTo>
                  <a:pt x="10626" y="10995"/>
                  <a:pt x="10706" y="10991"/>
                  <a:pt x="10765" y="10964"/>
                </a:cubicBezTo>
                <a:cubicBezTo>
                  <a:pt x="10822" y="10938"/>
                  <a:pt x="10846" y="10883"/>
                  <a:pt x="10864" y="10840"/>
                </a:cubicBezTo>
                <a:cubicBezTo>
                  <a:pt x="10885" y="10789"/>
                  <a:pt x="10927" y="10697"/>
                  <a:pt x="10914" y="10641"/>
                </a:cubicBezTo>
                <a:cubicBezTo>
                  <a:pt x="10897" y="10566"/>
                  <a:pt x="10879" y="10509"/>
                  <a:pt x="10840" y="10443"/>
                </a:cubicBezTo>
                <a:cubicBezTo>
                  <a:pt x="10799" y="10375"/>
                  <a:pt x="10752" y="10365"/>
                  <a:pt x="10691" y="10319"/>
                </a:cubicBezTo>
                <a:cubicBezTo>
                  <a:pt x="10640" y="10280"/>
                  <a:pt x="10575" y="10283"/>
                  <a:pt x="10517" y="10319"/>
                </a:cubicBezTo>
                <a:cubicBezTo>
                  <a:pt x="10454" y="10358"/>
                  <a:pt x="10446" y="10399"/>
                  <a:pt x="10443" y="10468"/>
                </a:cubicBezTo>
                <a:cubicBezTo>
                  <a:pt x="10440" y="10542"/>
                  <a:pt x="10428" y="10608"/>
                  <a:pt x="10492" y="10641"/>
                </a:cubicBezTo>
              </a:path>
              <a:path w="5458" h="1861">
                <a:moveTo>
                  <a:pt x="11112" y="10244"/>
                </a:moveTo>
                <a:cubicBezTo>
                  <a:pt x="11084" y="10293"/>
                  <a:pt x="11087" y="10345"/>
                  <a:pt x="11063" y="10393"/>
                </a:cubicBezTo>
                <a:cubicBezTo>
                  <a:pt x="11037" y="10445"/>
                  <a:pt x="11060" y="10489"/>
                  <a:pt x="11088" y="10542"/>
                </a:cubicBezTo>
                <a:cubicBezTo>
                  <a:pt x="11113" y="10589"/>
                  <a:pt x="11157" y="10651"/>
                  <a:pt x="11212" y="10666"/>
                </a:cubicBezTo>
                <a:cubicBezTo>
                  <a:pt x="11273" y="10682"/>
                  <a:pt x="11381" y="10668"/>
                  <a:pt x="11435" y="10641"/>
                </a:cubicBezTo>
                <a:cubicBezTo>
                  <a:pt x="11494" y="10611"/>
                  <a:pt x="11492" y="10565"/>
                  <a:pt x="11509" y="10517"/>
                </a:cubicBezTo>
                <a:cubicBezTo>
                  <a:pt x="11540" y="10429"/>
                  <a:pt x="11504" y="10351"/>
                  <a:pt x="11460" y="10269"/>
                </a:cubicBezTo>
                <a:cubicBezTo>
                  <a:pt x="11434" y="10221"/>
                  <a:pt x="11369" y="10159"/>
                  <a:pt x="11311" y="10145"/>
                </a:cubicBezTo>
                <a:cubicBezTo>
                  <a:pt x="11243" y="10129"/>
                  <a:pt x="11186" y="10151"/>
                  <a:pt x="11137" y="10195"/>
                </a:cubicBezTo>
                <a:cubicBezTo>
                  <a:pt x="11088" y="10239"/>
                  <a:pt x="11090" y="10252"/>
                  <a:pt x="11063" y="10319"/>
                </a:cubicBezTo>
              </a:path>
              <a:path w="5458" h="1861">
                <a:moveTo>
                  <a:pt x="11212" y="10567"/>
                </a:moveTo>
                <a:cubicBezTo>
                  <a:pt x="11165" y="10614"/>
                  <a:pt x="11122" y="10634"/>
                  <a:pt x="11088" y="10691"/>
                </a:cubicBezTo>
                <a:cubicBezTo>
                  <a:pt x="11052" y="10752"/>
                  <a:pt x="11040" y="10808"/>
                  <a:pt x="11063" y="10864"/>
                </a:cubicBezTo>
                <a:cubicBezTo>
                  <a:pt x="11093" y="10935"/>
                  <a:pt x="11122" y="10974"/>
                  <a:pt x="11187" y="11013"/>
                </a:cubicBezTo>
                <a:cubicBezTo>
                  <a:pt x="11238" y="11043"/>
                  <a:pt x="11353" y="11056"/>
                  <a:pt x="11410" y="11038"/>
                </a:cubicBezTo>
                <a:cubicBezTo>
                  <a:pt x="11487" y="11014"/>
                  <a:pt x="11483" y="10965"/>
                  <a:pt x="11509" y="10914"/>
                </a:cubicBezTo>
                <a:cubicBezTo>
                  <a:pt x="11543" y="10845"/>
                  <a:pt x="11535" y="10816"/>
                  <a:pt x="11509" y="10740"/>
                </a:cubicBezTo>
                <a:cubicBezTo>
                  <a:pt x="11483" y="10664"/>
                  <a:pt x="11464" y="10645"/>
                  <a:pt x="11410" y="10592"/>
                </a:cubicBezTo>
                <a:cubicBezTo>
                  <a:pt x="11402" y="10584"/>
                  <a:pt x="11393" y="10575"/>
                  <a:pt x="11385" y="10567"/>
                </a:cubicBezTo>
              </a:path>
              <a:path w="5458" h="1861">
                <a:moveTo>
                  <a:pt x="11782" y="10840"/>
                </a:moveTo>
                <a:cubicBezTo>
                  <a:pt x="11796" y="10958"/>
                  <a:pt x="11782" y="11021"/>
                  <a:pt x="11782" y="11137"/>
                </a:cubicBezTo>
                <a:cubicBezTo>
                  <a:pt x="11782" y="11229"/>
                  <a:pt x="11757" y="11294"/>
                  <a:pt x="11757" y="11385"/>
                </a:cubicBezTo>
                <a:cubicBezTo>
                  <a:pt x="11757" y="11402"/>
                  <a:pt x="11757" y="11418"/>
                  <a:pt x="11757" y="11435"/>
                </a:cubicBezTo>
              </a:path>
              <a:path w="5458" h="1861">
                <a:moveTo>
                  <a:pt x="12030" y="10294"/>
                </a:moveTo>
                <a:cubicBezTo>
                  <a:pt x="12193" y="10269"/>
                  <a:pt x="12185" y="10256"/>
                  <a:pt x="12303" y="10319"/>
                </a:cubicBezTo>
                <a:cubicBezTo>
                  <a:pt x="12382" y="10361"/>
                  <a:pt x="12387" y="10373"/>
                  <a:pt x="12378" y="10443"/>
                </a:cubicBezTo>
                <a:cubicBezTo>
                  <a:pt x="12371" y="10498"/>
                  <a:pt x="12355" y="10533"/>
                  <a:pt x="12303" y="10567"/>
                </a:cubicBezTo>
                <a:cubicBezTo>
                  <a:pt x="12274" y="10586"/>
                  <a:pt x="12153" y="10646"/>
                  <a:pt x="12129" y="10641"/>
                </a:cubicBezTo>
                <a:cubicBezTo>
                  <a:pt x="12121" y="10633"/>
                  <a:pt x="12113" y="10624"/>
                  <a:pt x="12105" y="10616"/>
                </a:cubicBezTo>
                <a:cubicBezTo>
                  <a:pt x="12145" y="10592"/>
                  <a:pt x="12226" y="10573"/>
                  <a:pt x="12278" y="10592"/>
                </a:cubicBezTo>
                <a:cubicBezTo>
                  <a:pt x="12333" y="10612"/>
                  <a:pt x="12420" y="10697"/>
                  <a:pt x="12452" y="10740"/>
                </a:cubicBezTo>
                <a:cubicBezTo>
                  <a:pt x="12489" y="10790"/>
                  <a:pt x="12520" y="10849"/>
                  <a:pt x="12502" y="10914"/>
                </a:cubicBezTo>
                <a:cubicBezTo>
                  <a:pt x="12478" y="11000"/>
                  <a:pt x="12435" y="10984"/>
                  <a:pt x="12378" y="11013"/>
                </a:cubicBezTo>
                <a:cubicBezTo>
                  <a:pt x="12309" y="11048"/>
                  <a:pt x="12293" y="11026"/>
                  <a:pt x="12229" y="11013"/>
                </a:cubicBezTo>
                <a:cubicBezTo>
                  <a:pt x="12191" y="11005"/>
                  <a:pt x="12120" y="10993"/>
                  <a:pt x="12105" y="10939"/>
                </a:cubicBezTo>
                <a:cubicBezTo>
                  <a:pt x="12105" y="10922"/>
                  <a:pt x="12105" y="10906"/>
                  <a:pt x="12105" y="10889"/>
                </a:cubicBezTo>
              </a:path>
              <a:path w="5458" h="1861">
                <a:moveTo>
                  <a:pt x="12601" y="10170"/>
                </a:moveTo>
                <a:cubicBezTo>
                  <a:pt x="12601" y="10318"/>
                  <a:pt x="12546" y="10610"/>
                  <a:pt x="12626" y="10740"/>
                </a:cubicBezTo>
                <a:cubicBezTo>
                  <a:pt x="12677" y="10823"/>
                  <a:pt x="12742" y="10885"/>
                  <a:pt x="12799" y="10964"/>
                </a:cubicBezTo>
                <a:cubicBezTo>
                  <a:pt x="12849" y="11034"/>
                  <a:pt x="12903" y="11061"/>
                  <a:pt x="12998" y="11038"/>
                </a:cubicBezTo>
                <a:cubicBezTo>
                  <a:pt x="13107" y="11012"/>
                  <a:pt x="13074" y="10889"/>
                  <a:pt x="13047" y="10815"/>
                </a:cubicBezTo>
                <a:cubicBezTo>
                  <a:pt x="13029" y="10765"/>
                  <a:pt x="12921" y="10678"/>
                  <a:pt x="12874" y="10740"/>
                </a:cubicBezTo>
                <a:cubicBezTo>
                  <a:pt x="12831" y="10796"/>
                  <a:pt x="12803" y="10937"/>
                  <a:pt x="12824" y="11013"/>
                </a:cubicBezTo>
                <a:cubicBezTo>
                  <a:pt x="12851" y="11067"/>
                  <a:pt x="12862" y="11087"/>
                  <a:pt x="12898" y="11112"/>
                </a:cubicBezTo>
              </a:path>
              <a:path w="5458" h="1861">
                <a:moveTo>
                  <a:pt x="13345" y="11063"/>
                </a:moveTo>
                <a:cubicBezTo>
                  <a:pt x="13278" y="11306"/>
                  <a:pt x="13244" y="11462"/>
                  <a:pt x="13097" y="11658"/>
                </a:cubicBezTo>
              </a:path>
              <a:path w="5458" h="1861">
                <a:moveTo>
                  <a:pt x="13742" y="10046"/>
                </a:moveTo>
                <a:cubicBezTo>
                  <a:pt x="13742" y="10129"/>
                  <a:pt x="13721" y="10190"/>
                  <a:pt x="13717" y="10269"/>
                </a:cubicBezTo>
                <a:cubicBezTo>
                  <a:pt x="13712" y="10350"/>
                  <a:pt x="13705" y="10417"/>
                  <a:pt x="13692" y="10492"/>
                </a:cubicBezTo>
                <a:cubicBezTo>
                  <a:pt x="13680" y="10565"/>
                  <a:pt x="13656" y="10943"/>
                  <a:pt x="13717" y="10988"/>
                </a:cubicBezTo>
                <a:cubicBezTo>
                  <a:pt x="13725" y="10988"/>
                  <a:pt x="13734" y="10988"/>
                  <a:pt x="13742" y="10988"/>
                </a:cubicBezTo>
              </a:path>
              <a:path w="5458" h="1861">
                <a:moveTo>
                  <a:pt x="13915" y="10294"/>
                </a:moveTo>
                <a:cubicBezTo>
                  <a:pt x="13967" y="10177"/>
                  <a:pt x="13977" y="10144"/>
                  <a:pt x="14064" y="10071"/>
                </a:cubicBezTo>
                <a:cubicBezTo>
                  <a:pt x="14125" y="10020"/>
                  <a:pt x="14210" y="10073"/>
                  <a:pt x="14263" y="10120"/>
                </a:cubicBezTo>
                <a:cubicBezTo>
                  <a:pt x="14297" y="10150"/>
                  <a:pt x="14306" y="10272"/>
                  <a:pt x="14288" y="10319"/>
                </a:cubicBezTo>
                <a:cubicBezTo>
                  <a:pt x="14260" y="10392"/>
                  <a:pt x="14221" y="10501"/>
                  <a:pt x="14188" y="10567"/>
                </a:cubicBezTo>
                <a:cubicBezTo>
                  <a:pt x="14160" y="10623"/>
                  <a:pt x="14120" y="10686"/>
                  <a:pt x="14089" y="10740"/>
                </a:cubicBezTo>
                <a:cubicBezTo>
                  <a:pt x="14070" y="10773"/>
                  <a:pt x="14010" y="10886"/>
                  <a:pt x="14015" y="10914"/>
                </a:cubicBezTo>
                <a:cubicBezTo>
                  <a:pt x="14023" y="10922"/>
                  <a:pt x="14031" y="10931"/>
                  <a:pt x="14039" y="10939"/>
                </a:cubicBezTo>
                <a:cubicBezTo>
                  <a:pt x="14169" y="10939"/>
                  <a:pt x="14284" y="10937"/>
                  <a:pt x="14412" y="10914"/>
                </a:cubicBezTo>
              </a:path>
              <a:path w="5458" h="1861">
                <a:moveTo>
                  <a:pt x="14784" y="10864"/>
                </a:moveTo>
                <a:cubicBezTo>
                  <a:pt x="14784" y="10952"/>
                  <a:pt x="14766" y="11010"/>
                  <a:pt x="14734" y="11088"/>
                </a:cubicBezTo>
                <a:cubicBezTo>
                  <a:pt x="14708" y="11151"/>
                  <a:pt x="14686" y="11229"/>
                  <a:pt x="14660" y="11286"/>
                </a:cubicBezTo>
                <a:cubicBezTo>
                  <a:pt x="14644" y="11320"/>
                  <a:pt x="14635" y="11415"/>
                  <a:pt x="14635" y="11311"/>
                </a:cubicBezTo>
              </a:path>
              <a:path w="5458" h="1861">
                <a:moveTo>
                  <a:pt x="15180" y="10071"/>
                </a:moveTo>
                <a:cubicBezTo>
                  <a:pt x="15156" y="10120"/>
                  <a:pt x="15094" y="10197"/>
                  <a:pt x="15081" y="10244"/>
                </a:cubicBezTo>
                <a:cubicBezTo>
                  <a:pt x="15069" y="10288"/>
                  <a:pt x="15037" y="10368"/>
                  <a:pt x="15056" y="10418"/>
                </a:cubicBezTo>
                <a:cubicBezTo>
                  <a:pt x="15073" y="10462"/>
                  <a:pt x="15214" y="10466"/>
                  <a:pt x="15255" y="10468"/>
                </a:cubicBezTo>
                <a:cubicBezTo>
                  <a:pt x="15356" y="10473"/>
                  <a:pt x="15461" y="10478"/>
                  <a:pt x="15553" y="10443"/>
                </a:cubicBezTo>
              </a:path>
              <a:path w="5458" h="1861">
                <a:moveTo>
                  <a:pt x="15528" y="9798"/>
                </a:moveTo>
                <a:cubicBezTo>
                  <a:pt x="15504" y="9886"/>
                  <a:pt x="15503" y="9954"/>
                  <a:pt x="15503" y="10046"/>
                </a:cubicBezTo>
                <a:cubicBezTo>
                  <a:pt x="15503" y="10248"/>
                  <a:pt x="15506" y="10445"/>
                  <a:pt x="15528" y="10641"/>
                </a:cubicBezTo>
                <a:cubicBezTo>
                  <a:pt x="15537" y="10724"/>
                  <a:pt x="15543" y="10811"/>
                  <a:pt x="15553" y="10889"/>
                </a:cubicBezTo>
                <a:cubicBezTo>
                  <a:pt x="15569" y="11017"/>
                  <a:pt x="15563" y="10966"/>
                  <a:pt x="15577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Ink 9"/>
          <p:cNvSpPr/>
          <p:nvPr/>
        </p:nvSpPr>
        <p:spPr>
          <a:xfrm>
            <a:off x="3902040" y="4394160"/>
            <a:ext cx="625680" cy="455760"/>
          </a:xfrm>
          <a:custGeom>
            <a:avLst/>
            <a:gdLst/>
            <a:ahLst/>
            <a:rect l="l" t="t" r="r" b="b"/>
            <a:pathLst>
              <a:path w="1737" h="1266">
                <a:moveTo>
                  <a:pt x="11534" y="12774"/>
                </a:moveTo>
                <a:cubicBezTo>
                  <a:pt x="11534" y="12904"/>
                  <a:pt x="11534" y="12681"/>
                  <a:pt x="11534" y="12650"/>
                </a:cubicBezTo>
                <a:cubicBezTo>
                  <a:pt x="11534" y="12585"/>
                  <a:pt x="11511" y="12512"/>
                  <a:pt x="11485" y="12452"/>
                </a:cubicBezTo>
                <a:cubicBezTo>
                  <a:pt x="11455" y="12384"/>
                  <a:pt x="11422" y="12300"/>
                  <a:pt x="11361" y="12254"/>
                </a:cubicBezTo>
                <a:cubicBezTo>
                  <a:pt x="11288" y="12199"/>
                  <a:pt x="11225" y="12188"/>
                  <a:pt x="11137" y="12229"/>
                </a:cubicBezTo>
                <a:cubicBezTo>
                  <a:pt x="11093" y="12250"/>
                  <a:pt x="11009" y="12360"/>
                  <a:pt x="10988" y="12402"/>
                </a:cubicBezTo>
                <a:cubicBezTo>
                  <a:pt x="10940" y="12496"/>
                  <a:pt x="10893" y="12596"/>
                  <a:pt x="10864" y="12700"/>
                </a:cubicBezTo>
                <a:cubicBezTo>
                  <a:pt x="10836" y="12800"/>
                  <a:pt x="10818" y="12944"/>
                  <a:pt x="10840" y="13047"/>
                </a:cubicBezTo>
                <a:cubicBezTo>
                  <a:pt x="10851" y="13099"/>
                  <a:pt x="10896" y="13209"/>
                  <a:pt x="10939" y="13246"/>
                </a:cubicBezTo>
                <a:cubicBezTo>
                  <a:pt x="10989" y="13290"/>
                  <a:pt x="11097" y="13332"/>
                  <a:pt x="11162" y="13320"/>
                </a:cubicBezTo>
                <a:cubicBezTo>
                  <a:pt x="11239" y="13305"/>
                  <a:pt x="11293" y="13248"/>
                  <a:pt x="11336" y="13196"/>
                </a:cubicBezTo>
                <a:cubicBezTo>
                  <a:pt x="11379" y="13144"/>
                  <a:pt x="11404" y="13083"/>
                  <a:pt x="11435" y="13022"/>
                </a:cubicBezTo>
                <a:cubicBezTo>
                  <a:pt x="11473" y="12947"/>
                  <a:pt x="11477" y="12866"/>
                  <a:pt x="11509" y="12799"/>
                </a:cubicBezTo>
                <a:cubicBezTo>
                  <a:pt x="11517" y="12879"/>
                  <a:pt x="11549" y="12943"/>
                  <a:pt x="11559" y="13022"/>
                </a:cubicBezTo>
                <a:cubicBezTo>
                  <a:pt x="11570" y="13106"/>
                  <a:pt x="11582" y="13152"/>
                  <a:pt x="11633" y="13221"/>
                </a:cubicBezTo>
                <a:cubicBezTo>
                  <a:pt x="11663" y="13251"/>
                  <a:pt x="11677" y="13262"/>
                  <a:pt x="11708" y="13271"/>
                </a:cubicBezTo>
              </a:path>
              <a:path w="1737" h="1266">
                <a:moveTo>
                  <a:pt x="11782" y="13022"/>
                </a:moveTo>
                <a:cubicBezTo>
                  <a:pt x="11773" y="13116"/>
                  <a:pt x="11757" y="13197"/>
                  <a:pt x="11757" y="13295"/>
                </a:cubicBezTo>
                <a:cubicBezTo>
                  <a:pt x="11757" y="13372"/>
                  <a:pt x="11756" y="13401"/>
                  <a:pt x="11782" y="13469"/>
                </a:cubicBezTo>
                <a:cubicBezTo>
                  <a:pt x="11792" y="13400"/>
                  <a:pt x="11821" y="13347"/>
                  <a:pt x="11832" y="13271"/>
                </a:cubicBezTo>
                <a:cubicBezTo>
                  <a:pt x="11843" y="13196"/>
                  <a:pt x="11865" y="13144"/>
                  <a:pt x="11881" y="13072"/>
                </a:cubicBezTo>
                <a:cubicBezTo>
                  <a:pt x="11895" y="13009"/>
                  <a:pt x="11910" y="12953"/>
                  <a:pt x="11956" y="12898"/>
                </a:cubicBezTo>
                <a:cubicBezTo>
                  <a:pt x="11964" y="12890"/>
                  <a:pt x="11973" y="12882"/>
                  <a:pt x="11981" y="12874"/>
                </a:cubicBezTo>
                <a:cubicBezTo>
                  <a:pt x="12041" y="12934"/>
                  <a:pt x="12044" y="13010"/>
                  <a:pt x="12055" y="13097"/>
                </a:cubicBezTo>
                <a:cubicBezTo>
                  <a:pt x="12067" y="13199"/>
                  <a:pt x="12093" y="13343"/>
                  <a:pt x="12154" y="13419"/>
                </a:cubicBezTo>
                <a:cubicBezTo>
                  <a:pt x="12182" y="13447"/>
                  <a:pt x="12196" y="13456"/>
                  <a:pt x="12229" y="13444"/>
                </a:cubicBezTo>
              </a:path>
              <a:path w="1737" h="1266">
                <a:moveTo>
                  <a:pt x="12303" y="12725"/>
                </a:moveTo>
                <a:cubicBezTo>
                  <a:pt x="12385" y="12670"/>
                  <a:pt x="12420" y="12677"/>
                  <a:pt x="12502" y="12700"/>
                </a:cubicBezTo>
                <a:cubicBezTo>
                  <a:pt x="12510" y="12700"/>
                  <a:pt x="12518" y="12700"/>
                  <a:pt x="12526" y="12700"/>
                </a:cubicBezTo>
              </a:path>
              <a:path w="1737" h="1266">
                <a:moveTo>
                  <a:pt x="12353" y="12874"/>
                </a:moveTo>
                <a:cubicBezTo>
                  <a:pt x="12436" y="12874"/>
                  <a:pt x="12489" y="12865"/>
                  <a:pt x="12576" y="128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Ink 10"/>
          <p:cNvSpPr/>
          <p:nvPr/>
        </p:nvSpPr>
        <p:spPr>
          <a:xfrm>
            <a:off x="4653000" y="4106880"/>
            <a:ext cx="1687320" cy="696960"/>
          </a:xfrm>
          <a:custGeom>
            <a:avLst/>
            <a:gdLst/>
            <a:ahLst/>
            <a:rect l="l" t="t" r="r" b="b"/>
            <a:pathLst>
              <a:path w="4689" h="1936">
                <a:moveTo>
                  <a:pt x="12948" y="12328"/>
                </a:moveTo>
                <a:cubicBezTo>
                  <a:pt x="12928" y="12503"/>
                  <a:pt x="12926" y="12568"/>
                  <a:pt x="12948" y="12725"/>
                </a:cubicBezTo>
                <a:cubicBezTo>
                  <a:pt x="12960" y="12810"/>
                  <a:pt x="12954" y="12891"/>
                  <a:pt x="12973" y="12973"/>
                </a:cubicBezTo>
                <a:cubicBezTo>
                  <a:pt x="12992" y="13030"/>
                  <a:pt x="12983" y="13055"/>
                  <a:pt x="13022" y="13047"/>
                </a:cubicBezTo>
              </a:path>
              <a:path w="4689" h="1936">
                <a:moveTo>
                  <a:pt x="13271" y="12303"/>
                </a:moveTo>
                <a:cubicBezTo>
                  <a:pt x="13237" y="12379"/>
                  <a:pt x="13228" y="12454"/>
                  <a:pt x="13196" y="12526"/>
                </a:cubicBezTo>
                <a:cubicBezTo>
                  <a:pt x="13168" y="12588"/>
                  <a:pt x="13153" y="12681"/>
                  <a:pt x="13171" y="12750"/>
                </a:cubicBezTo>
                <a:cubicBezTo>
                  <a:pt x="13184" y="12800"/>
                  <a:pt x="13236" y="12935"/>
                  <a:pt x="13271" y="12973"/>
                </a:cubicBezTo>
                <a:cubicBezTo>
                  <a:pt x="13312" y="13018"/>
                  <a:pt x="13409" y="13062"/>
                  <a:pt x="13469" y="13047"/>
                </a:cubicBezTo>
                <a:cubicBezTo>
                  <a:pt x="13523" y="13033"/>
                  <a:pt x="13552" y="12933"/>
                  <a:pt x="13568" y="12898"/>
                </a:cubicBezTo>
                <a:cubicBezTo>
                  <a:pt x="13604" y="12818"/>
                  <a:pt x="13598" y="12775"/>
                  <a:pt x="13593" y="12700"/>
                </a:cubicBezTo>
                <a:cubicBezTo>
                  <a:pt x="13586" y="12599"/>
                  <a:pt x="13579" y="12514"/>
                  <a:pt x="13519" y="12427"/>
                </a:cubicBezTo>
                <a:cubicBezTo>
                  <a:pt x="13502" y="12403"/>
                  <a:pt x="13441" y="12309"/>
                  <a:pt x="13419" y="12303"/>
                </a:cubicBezTo>
                <a:cubicBezTo>
                  <a:pt x="13334" y="12280"/>
                  <a:pt x="13278" y="12300"/>
                  <a:pt x="13246" y="12378"/>
                </a:cubicBezTo>
                <a:cubicBezTo>
                  <a:pt x="13214" y="12457"/>
                  <a:pt x="13242" y="12498"/>
                  <a:pt x="13271" y="12576"/>
                </a:cubicBezTo>
              </a:path>
              <a:path w="4689" h="1936">
                <a:moveTo>
                  <a:pt x="13866" y="12229"/>
                </a:moveTo>
                <a:cubicBezTo>
                  <a:pt x="13809" y="12272"/>
                  <a:pt x="13785" y="12260"/>
                  <a:pt x="13767" y="12353"/>
                </a:cubicBezTo>
                <a:cubicBezTo>
                  <a:pt x="13753" y="12422"/>
                  <a:pt x="13771" y="12476"/>
                  <a:pt x="13816" y="12526"/>
                </a:cubicBezTo>
                <a:cubicBezTo>
                  <a:pt x="13870" y="12586"/>
                  <a:pt x="13902" y="12584"/>
                  <a:pt x="13965" y="12576"/>
                </a:cubicBezTo>
                <a:cubicBezTo>
                  <a:pt x="14052" y="12565"/>
                  <a:pt x="14058" y="12538"/>
                  <a:pt x="14089" y="12452"/>
                </a:cubicBezTo>
                <a:cubicBezTo>
                  <a:pt x="14119" y="12371"/>
                  <a:pt x="14100" y="12322"/>
                  <a:pt x="14064" y="12254"/>
                </a:cubicBezTo>
                <a:cubicBezTo>
                  <a:pt x="14034" y="12198"/>
                  <a:pt x="13993" y="12125"/>
                  <a:pt x="13915" y="12129"/>
                </a:cubicBezTo>
                <a:cubicBezTo>
                  <a:pt x="13834" y="12133"/>
                  <a:pt x="13784" y="12188"/>
                  <a:pt x="13742" y="12254"/>
                </a:cubicBezTo>
                <a:cubicBezTo>
                  <a:pt x="13710" y="12316"/>
                  <a:pt x="13702" y="12347"/>
                  <a:pt x="13717" y="12402"/>
                </a:cubicBezTo>
              </a:path>
              <a:path w="4689" h="1936">
                <a:moveTo>
                  <a:pt x="13965" y="12526"/>
                </a:moveTo>
                <a:cubicBezTo>
                  <a:pt x="13852" y="12536"/>
                  <a:pt x="13853" y="12543"/>
                  <a:pt x="13791" y="12626"/>
                </a:cubicBezTo>
                <a:cubicBezTo>
                  <a:pt x="13759" y="12669"/>
                  <a:pt x="13748" y="12769"/>
                  <a:pt x="13767" y="12824"/>
                </a:cubicBezTo>
                <a:cubicBezTo>
                  <a:pt x="13782" y="12869"/>
                  <a:pt x="13852" y="12945"/>
                  <a:pt x="13891" y="12973"/>
                </a:cubicBezTo>
                <a:cubicBezTo>
                  <a:pt x="13949" y="13015"/>
                  <a:pt x="14062" y="13016"/>
                  <a:pt x="14114" y="12973"/>
                </a:cubicBezTo>
                <a:cubicBezTo>
                  <a:pt x="14162" y="12934"/>
                  <a:pt x="14241" y="12792"/>
                  <a:pt x="14238" y="12725"/>
                </a:cubicBezTo>
                <a:cubicBezTo>
                  <a:pt x="14235" y="12670"/>
                  <a:pt x="14200" y="12593"/>
                  <a:pt x="14163" y="12551"/>
                </a:cubicBezTo>
                <a:cubicBezTo>
                  <a:pt x="14129" y="12513"/>
                  <a:pt x="14096" y="12463"/>
                  <a:pt x="14039" y="12477"/>
                </a:cubicBezTo>
                <a:cubicBezTo>
                  <a:pt x="13961" y="12496"/>
                  <a:pt x="13940" y="12562"/>
                  <a:pt x="13915" y="12626"/>
                </a:cubicBezTo>
              </a:path>
              <a:path w="4689" h="1936">
                <a:moveTo>
                  <a:pt x="14511" y="12477"/>
                </a:moveTo>
                <a:cubicBezTo>
                  <a:pt x="14516" y="12488"/>
                  <a:pt x="14518" y="12581"/>
                  <a:pt x="14560" y="12576"/>
                </a:cubicBezTo>
                <a:cubicBezTo>
                  <a:pt x="14605" y="12571"/>
                  <a:pt x="14606" y="12502"/>
                  <a:pt x="14610" y="12477"/>
                </a:cubicBezTo>
                <a:cubicBezTo>
                  <a:pt x="14545" y="12477"/>
                  <a:pt x="14532" y="12481"/>
                  <a:pt x="14486" y="12526"/>
                </a:cubicBezTo>
                <a:cubicBezTo>
                  <a:pt x="14509" y="12549"/>
                  <a:pt x="14513" y="12557"/>
                  <a:pt x="14536" y="12551"/>
                </a:cubicBezTo>
              </a:path>
              <a:path w="4689" h="1936">
                <a:moveTo>
                  <a:pt x="15180" y="12080"/>
                </a:moveTo>
                <a:cubicBezTo>
                  <a:pt x="15102" y="12125"/>
                  <a:pt x="15109" y="12161"/>
                  <a:pt x="15056" y="12229"/>
                </a:cubicBezTo>
                <a:cubicBezTo>
                  <a:pt x="14997" y="12305"/>
                  <a:pt x="14947" y="12401"/>
                  <a:pt x="14932" y="12502"/>
                </a:cubicBezTo>
                <a:cubicBezTo>
                  <a:pt x="14913" y="12628"/>
                  <a:pt x="14928" y="12778"/>
                  <a:pt x="14957" y="12898"/>
                </a:cubicBezTo>
                <a:cubicBezTo>
                  <a:pt x="14984" y="13009"/>
                  <a:pt x="15030" y="13089"/>
                  <a:pt x="15106" y="13171"/>
                </a:cubicBezTo>
                <a:cubicBezTo>
                  <a:pt x="15114" y="13179"/>
                  <a:pt x="15123" y="13188"/>
                  <a:pt x="15131" y="13196"/>
                </a:cubicBezTo>
              </a:path>
              <a:path w="4689" h="1936">
                <a:moveTo>
                  <a:pt x="15404" y="12154"/>
                </a:moveTo>
                <a:cubicBezTo>
                  <a:pt x="15404" y="12252"/>
                  <a:pt x="15400" y="12359"/>
                  <a:pt x="15429" y="12452"/>
                </a:cubicBezTo>
                <a:cubicBezTo>
                  <a:pt x="15446" y="12507"/>
                  <a:pt x="15453" y="12541"/>
                  <a:pt x="15453" y="12601"/>
                </a:cubicBezTo>
              </a:path>
              <a:path w="4689" h="1936">
                <a:moveTo>
                  <a:pt x="15677" y="12105"/>
                </a:moveTo>
                <a:cubicBezTo>
                  <a:pt x="15647" y="12218"/>
                  <a:pt x="15595" y="12359"/>
                  <a:pt x="15577" y="12477"/>
                </a:cubicBezTo>
                <a:cubicBezTo>
                  <a:pt x="15562" y="12575"/>
                  <a:pt x="15539" y="12677"/>
                  <a:pt x="15528" y="12774"/>
                </a:cubicBezTo>
                <a:cubicBezTo>
                  <a:pt x="15517" y="12875"/>
                  <a:pt x="15483" y="12970"/>
                  <a:pt x="15478" y="13072"/>
                </a:cubicBezTo>
                <a:cubicBezTo>
                  <a:pt x="15478" y="13122"/>
                  <a:pt x="15478" y="13138"/>
                  <a:pt x="15478" y="13171"/>
                </a:cubicBezTo>
              </a:path>
              <a:path w="4689" h="1936">
                <a:moveTo>
                  <a:pt x="15776" y="12576"/>
                </a:moveTo>
                <a:cubicBezTo>
                  <a:pt x="15856" y="12522"/>
                  <a:pt x="15876" y="12503"/>
                  <a:pt x="15949" y="12576"/>
                </a:cubicBezTo>
                <a:cubicBezTo>
                  <a:pt x="16001" y="12628"/>
                  <a:pt x="15967" y="12658"/>
                  <a:pt x="15925" y="12700"/>
                </a:cubicBezTo>
                <a:cubicBezTo>
                  <a:pt x="15883" y="12742"/>
                  <a:pt x="15857" y="12743"/>
                  <a:pt x="15801" y="12750"/>
                </a:cubicBezTo>
                <a:cubicBezTo>
                  <a:pt x="15888" y="12750"/>
                  <a:pt x="15915" y="12740"/>
                  <a:pt x="15974" y="12799"/>
                </a:cubicBezTo>
                <a:cubicBezTo>
                  <a:pt x="16039" y="12864"/>
                  <a:pt x="16068" y="12878"/>
                  <a:pt x="16073" y="12973"/>
                </a:cubicBezTo>
                <a:cubicBezTo>
                  <a:pt x="16076" y="13040"/>
                  <a:pt x="16087" y="13118"/>
                  <a:pt x="16049" y="13171"/>
                </a:cubicBezTo>
                <a:cubicBezTo>
                  <a:pt x="16007" y="13230"/>
                  <a:pt x="15967" y="13221"/>
                  <a:pt x="15900" y="13221"/>
                </a:cubicBezTo>
                <a:cubicBezTo>
                  <a:pt x="15824" y="13221"/>
                  <a:pt x="15804" y="13224"/>
                  <a:pt x="15751" y="13171"/>
                </a:cubicBezTo>
                <a:cubicBezTo>
                  <a:pt x="15729" y="13149"/>
                  <a:pt x="15720" y="13144"/>
                  <a:pt x="15726" y="13122"/>
                </a:cubicBezTo>
              </a:path>
              <a:path w="4689" h="1936">
                <a:moveTo>
                  <a:pt x="15949" y="11956"/>
                </a:moveTo>
                <a:cubicBezTo>
                  <a:pt x="16005" y="12027"/>
                  <a:pt x="16059" y="12119"/>
                  <a:pt x="16098" y="12204"/>
                </a:cubicBezTo>
                <a:cubicBezTo>
                  <a:pt x="16151" y="12319"/>
                  <a:pt x="16176" y="12433"/>
                  <a:pt x="16222" y="12551"/>
                </a:cubicBezTo>
                <a:cubicBezTo>
                  <a:pt x="16278" y="12695"/>
                  <a:pt x="16308" y="12817"/>
                  <a:pt x="16321" y="12973"/>
                </a:cubicBezTo>
                <a:cubicBezTo>
                  <a:pt x="16327" y="13044"/>
                  <a:pt x="16327" y="13158"/>
                  <a:pt x="16297" y="13221"/>
                </a:cubicBezTo>
                <a:cubicBezTo>
                  <a:pt x="16289" y="13237"/>
                  <a:pt x="16185" y="13409"/>
                  <a:pt x="16148" y="13320"/>
                </a:cubicBezTo>
                <a:cubicBezTo>
                  <a:pt x="16148" y="13304"/>
                  <a:pt x="16148" y="13287"/>
                  <a:pt x="16148" y="13271"/>
                </a:cubicBezTo>
              </a:path>
              <a:path w="4689" h="1936">
                <a:moveTo>
                  <a:pt x="16421" y="11683"/>
                </a:moveTo>
                <a:cubicBezTo>
                  <a:pt x="16366" y="11738"/>
                  <a:pt x="16335" y="11802"/>
                  <a:pt x="16321" y="11881"/>
                </a:cubicBezTo>
                <a:cubicBezTo>
                  <a:pt x="16305" y="11970"/>
                  <a:pt x="16355" y="12022"/>
                  <a:pt x="16371" y="12105"/>
                </a:cubicBezTo>
                <a:cubicBezTo>
                  <a:pt x="16383" y="12165"/>
                  <a:pt x="16383" y="12188"/>
                  <a:pt x="16446" y="12204"/>
                </a:cubicBezTo>
              </a:path>
              <a:path w="4689" h="1936">
                <a:moveTo>
                  <a:pt x="16545" y="11857"/>
                </a:moveTo>
                <a:cubicBezTo>
                  <a:pt x="16545" y="11939"/>
                  <a:pt x="16566" y="11999"/>
                  <a:pt x="16570" y="12080"/>
                </a:cubicBezTo>
                <a:cubicBezTo>
                  <a:pt x="16570" y="12124"/>
                  <a:pt x="16567" y="12137"/>
                  <a:pt x="16594" y="12154"/>
                </a:cubicBezTo>
                <a:cubicBezTo>
                  <a:pt x="16633" y="12089"/>
                  <a:pt x="16619" y="12011"/>
                  <a:pt x="16619" y="11931"/>
                </a:cubicBezTo>
                <a:cubicBezTo>
                  <a:pt x="16619" y="11854"/>
                  <a:pt x="16624" y="11838"/>
                  <a:pt x="16669" y="11782"/>
                </a:cubicBezTo>
                <a:cubicBezTo>
                  <a:pt x="16714" y="11850"/>
                  <a:pt x="16723" y="11935"/>
                  <a:pt x="16768" y="12005"/>
                </a:cubicBezTo>
                <a:cubicBezTo>
                  <a:pt x="16798" y="12051"/>
                  <a:pt x="16811" y="12102"/>
                  <a:pt x="16842" y="12154"/>
                </a:cubicBezTo>
                <a:cubicBezTo>
                  <a:pt x="16850" y="12171"/>
                  <a:pt x="16859" y="12187"/>
                  <a:pt x="16867" y="12204"/>
                </a:cubicBezTo>
              </a:path>
              <a:path w="4689" h="1936">
                <a:moveTo>
                  <a:pt x="16966" y="11931"/>
                </a:moveTo>
                <a:cubicBezTo>
                  <a:pt x="17026" y="11909"/>
                  <a:pt x="17076" y="11899"/>
                  <a:pt x="17140" y="11881"/>
                </a:cubicBezTo>
              </a:path>
              <a:path w="4689" h="1936">
                <a:moveTo>
                  <a:pt x="17264" y="11708"/>
                </a:moveTo>
                <a:cubicBezTo>
                  <a:pt x="17264" y="11834"/>
                  <a:pt x="17272" y="11913"/>
                  <a:pt x="17289" y="12030"/>
                </a:cubicBezTo>
                <a:cubicBezTo>
                  <a:pt x="17295" y="12075"/>
                  <a:pt x="17305" y="12110"/>
                  <a:pt x="17314" y="12154"/>
                </a:cubicBezTo>
              </a:path>
              <a:path w="4689" h="1936">
                <a:moveTo>
                  <a:pt x="17413" y="11410"/>
                </a:moveTo>
                <a:cubicBezTo>
                  <a:pt x="17479" y="11549"/>
                  <a:pt x="17546" y="11684"/>
                  <a:pt x="17587" y="11832"/>
                </a:cubicBezTo>
                <a:cubicBezTo>
                  <a:pt x="17620" y="11953"/>
                  <a:pt x="17604" y="12040"/>
                  <a:pt x="17587" y="12154"/>
                </a:cubicBezTo>
                <a:cubicBezTo>
                  <a:pt x="17575" y="12235"/>
                  <a:pt x="17518" y="12289"/>
                  <a:pt x="17462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Find the 22</a:t>
            </a:r>
            <a:r>
              <a:rPr b="0" lang="en-US" sz="4000" spc="-1" strike="noStrike" baseline="30000">
                <a:solidFill>
                  <a:srgbClr val="d1d1df"/>
                </a:solidFill>
                <a:latin typeface="Tahoma"/>
              </a:rPr>
              <a:t>nd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 term of this geometric sequence:</a:t>
            </a:r>
            <a:br>
              <a:rPr sz="4000"/>
            </a:b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4, 8, 16, …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24" name="Ink 5"/>
          <p:cNvSpPr/>
          <p:nvPr/>
        </p:nvSpPr>
        <p:spPr>
          <a:xfrm>
            <a:off x="1768320" y="2214720"/>
            <a:ext cx="1268640" cy="581040"/>
          </a:xfrm>
          <a:custGeom>
            <a:avLst/>
            <a:gdLst/>
            <a:ahLst/>
            <a:rect l="l" t="t" r="r" b="b"/>
            <a:pathLst>
              <a:path w="3524" h="1613">
                <a:moveTo>
                  <a:pt x="5705" y="7045"/>
                </a:moveTo>
                <a:cubicBezTo>
                  <a:pt x="5705" y="7061"/>
                  <a:pt x="5705" y="7078"/>
                  <a:pt x="5705" y="7094"/>
                </a:cubicBezTo>
                <a:cubicBezTo>
                  <a:pt x="5786" y="7025"/>
                  <a:pt x="5779" y="7042"/>
                  <a:pt x="5779" y="6921"/>
                </a:cubicBezTo>
                <a:cubicBezTo>
                  <a:pt x="5779" y="6827"/>
                  <a:pt x="5789" y="6737"/>
                  <a:pt x="5755" y="6648"/>
                </a:cubicBezTo>
                <a:cubicBezTo>
                  <a:pt x="5729" y="6579"/>
                  <a:pt x="5710" y="6514"/>
                  <a:pt x="5680" y="6449"/>
                </a:cubicBezTo>
                <a:cubicBezTo>
                  <a:pt x="5658" y="6401"/>
                  <a:pt x="5596" y="6311"/>
                  <a:pt x="5556" y="6276"/>
                </a:cubicBezTo>
                <a:cubicBezTo>
                  <a:pt x="5492" y="6219"/>
                  <a:pt x="5425" y="6234"/>
                  <a:pt x="5358" y="6251"/>
                </a:cubicBezTo>
                <a:cubicBezTo>
                  <a:pt x="5285" y="6269"/>
                  <a:pt x="5212" y="6325"/>
                  <a:pt x="5159" y="6375"/>
                </a:cubicBezTo>
                <a:cubicBezTo>
                  <a:pt x="5084" y="6445"/>
                  <a:pt x="5051" y="6555"/>
                  <a:pt x="5011" y="6648"/>
                </a:cubicBezTo>
                <a:cubicBezTo>
                  <a:pt x="4944" y="6805"/>
                  <a:pt x="4916" y="6925"/>
                  <a:pt x="4911" y="7094"/>
                </a:cubicBezTo>
                <a:cubicBezTo>
                  <a:pt x="4908" y="7212"/>
                  <a:pt x="4902" y="7328"/>
                  <a:pt x="4936" y="7441"/>
                </a:cubicBezTo>
                <a:cubicBezTo>
                  <a:pt x="4964" y="7533"/>
                  <a:pt x="4993" y="7658"/>
                  <a:pt x="5085" y="7714"/>
                </a:cubicBezTo>
                <a:cubicBezTo>
                  <a:pt x="5172" y="7767"/>
                  <a:pt x="5230" y="7728"/>
                  <a:pt x="5308" y="7689"/>
                </a:cubicBezTo>
                <a:cubicBezTo>
                  <a:pt x="5403" y="7642"/>
                  <a:pt x="5444" y="7592"/>
                  <a:pt x="5507" y="7516"/>
                </a:cubicBezTo>
                <a:cubicBezTo>
                  <a:pt x="5566" y="7445"/>
                  <a:pt x="5599" y="7381"/>
                  <a:pt x="5631" y="7293"/>
                </a:cubicBezTo>
                <a:cubicBezTo>
                  <a:pt x="5642" y="7262"/>
                  <a:pt x="5655" y="7105"/>
                  <a:pt x="5655" y="7218"/>
                </a:cubicBezTo>
                <a:cubicBezTo>
                  <a:pt x="5655" y="7292"/>
                  <a:pt x="5671" y="7350"/>
                  <a:pt x="5680" y="7417"/>
                </a:cubicBezTo>
                <a:cubicBezTo>
                  <a:pt x="5694" y="7523"/>
                  <a:pt x="5682" y="7470"/>
                  <a:pt x="5730" y="7541"/>
                </a:cubicBezTo>
              </a:path>
              <a:path w="3524" h="1613">
                <a:moveTo>
                  <a:pt x="5879" y="7441"/>
                </a:moveTo>
                <a:cubicBezTo>
                  <a:pt x="5888" y="7511"/>
                  <a:pt x="5904" y="7566"/>
                  <a:pt x="5904" y="7640"/>
                </a:cubicBezTo>
                <a:cubicBezTo>
                  <a:pt x="5904" y="7771"/>
                  <a:pt x="5926" y="7533"/>
                  <a:pt x="5928" y="7516"/>
                </a:cubicBezTo>
                <a:cubicBezTo>
                  <a:pt x="5938" y="7444"/>
                  <a:pt x="5983" y="7380"/>
                  <a:pt x="6028" y="7317"/>
                </a:cubicBezTo>
                <a:cubicBezTo>
                  <a:pt x="6079" y="7245"/>
                  <a:pt x="6165" y="7306"/>
                  <a:pt x="6201" y="7342"/>
                </a:cubicBezTo>
                <a:cubicBezTo>
                  <a:pt x="6240" y="7381"/>
                  <a:pt x="6288" y="7461"/>
                  <a:pt x="6300" y="7516"/>
                </a:cubicBezTo>
                <a:cubicBezTo>
                  <a:pt x="6314" y="7581"/>
                  <a:pt x="6339" y="7650"/>
                  <a:pt x="6350" y="7714"/>
                </a:cubicBezTo>
                <a:cubicBezTo>
                  <a:pt x="6367" y="7814"/>
                  <a:pt x="6369" y="7731"/>
                  <a:pt x="6375" y="7689"/>
                </a:cubicBezTo>
              </a:path>
              <a:path w="3524" h="1613">
                <a:moveTo>
                  <a:pt x="6449" y="7020"/>
                </a:moveTo>
                <a:cubicBezTo>
                  <a:pt x="6511" y="6971"/>
                  <a:pt x="6545" y="6970"/>
                  <a:pt x="6623" y="6970"/>
                </a:cubicBezTo>
                <a:cubicBezTo>
                  <a:pt x="6648" y="6970"/>
                  <a:pt x="6672" y="6970"/>
                  <a:pt x="6697" y="6970"/>
                </a:cubicBezTo>
              </a:path>
              <a:path w="3524" h="1613">
                <a:moveTo>
                  <a:pt x="6623" y="7169"/>
                </a:moveTo>
                <a:cubicBezTo>
                  <a:pt x="6760" y="7169"/>
                  <a:pt x="6804" y="7176"/>
                  <a:pt x="6921" y="7144"/>
                </a:cubicBezTo>
              </a:path>
              <a:path w="3524" h="1613">
                <a:moveTo>
                  <a:pt x="7838" y="6548"/>
                </a:moveTo>
                <a:cubicBezTo>
                  <a:pt x="7838" y="6600"/>
                  <a:pt x="7839" y="6618"/>
                  <a:pt x="7863" y="6648"/>
                </a:cubicBezTo>
                <a:cubicBezTo>
                  <a:pt x="7902" y="6571"/>
                  <a:pt x="7868" y="6532"/>
                  <a:pt x="7863" y="6449"/>
                </a:cubicBezTo>
                <a:cubicBezTo>
                  <a:pt x="7859" y="6381"/>
                  <a:pt x="7829" y="6309"/>
                  <a:pt x="7789" y="6251"/>
                </a:cubicBezTo>
                <a:cubicBezTo>
                  <a:pt x="7738" y="6177"/>
                  <a:pt x="7710" y="6157"/>
                  <a:pt x="7615" y="6152"/>
                </a:cubicBezTo>
                <a:cubicBezTo>
                  <a:pt x="7535" y="6148"/>
                  <a:pt x="7495" y="6222"/>
                  <a:pt x="7441" y="6276"/>
                </a:cubicBezTo>
                <a:cubicBezTo>
                  <a:pt x="7364" y="6353"/>
                  <a:pt x="7301" y="6444"/>
                  <a:pt x="7268" y="6548"/>
                </a:cubicBezTo>
                <a:cubicBezTo>
                  <a:pt x="7227" y="6679"/>
                  <a:pt x="7160" y="6858"/>
                  <a:pt x="7169" y="6995"/>
                </a:cubicBezTo>
                <a:cubicBezTo>
                  <a:pt x="7174" y="7071"/>
                  <a:pt x="7204" y="7177"/>
                  <a:pt x="7243" y="7243"/>
                </a:cubicBezTo>
                <a:cubicBezTo>
                  <a:pt x="7314" y="7363"/>
                  <a:pt x="7380" y="7319"/>
                  <a:pt x="7491" y="7268"/>
                </a:cubicBezTo>
                <a:cubicBezTo>
                  <a:pt x="7567" y="7233"/>
                  <a:pt x="7617" y="7160"/>
                  <a:pt x="7665" y="7094"/>
                </a:cubicBezTo>
                <a:cubicBezTo>
                  <a:pt x="7718" y="7023"/>
                  <a:pt x="7772" y="6910"/>
                  <a:pt x="7789" y="6821"/>
                </a:cubicBezTo>
                <a:cubicBezTo>
                  <a:pt x="7802" y="6752"/>
                  <a:pt x="7824" y="6707"/>
                  <a:pt x="7789" y="6648"/>
                </a:cubicBezTo>
                <a:cubicBezTo>
                  <a:pt x="7789" y="6789"/>
                  <a:pt x="7765" y="6959"/>
                  <a:pt x="7813" y="7094"/>
                </a:cubicBezTo>
                <a:cubicBezTo>
                  <a:pt x="7839" y="7167"/>
                  <a:pt x="7893" y="7234"/>
                  <a:pt x="7938" y="7293"/>
                </a:cubicBezTo>
                <a:cubicBezTo>
                  <a:pt x="7973" y="7339"/>
                  <a:pt x="8011" y="7336"/>
                  <a:pt x="8062" y="7342"/>
                </a:cubicBezTo>
              </a:path>
              <a:path w="3524" h="1613">
                <a:moveTo>
                  <a:pt x="8384" y="7243"/>
                </a:moveTo>
                <a:cubicBezTo>
                  <a:pt x="8384" y="7275"/>
                  <a:pt x="8361" y="7535"/>
                  <a:pt x="8409" y="7541"/>
                </a:cubicBezTo>
                <a:cubicBezTo>
                  <a:pt x="8417" y="7533"/>
                  <a:pt x="8426" y="7524"/>
                  <a:pt x="8434" y="75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Ink 6"/>
          <p:cNvSpPr/>
          <p:nvPr/>
        </p:nvSpPr>
        <p:spPr>
          <a:xfrm>
            <a:off x="3178080" y="2017800"/>
            <a:ext cx="957240" cy="590400"/>
          </a:xfrm>
          <a:custGeom>
            <a:avLst/>
            <a:gdLst/>
            <a:ahLst/>
            <a:rect l="l" t="t" r="r" b="b"/>
            <a:pathLst>
              <a:path w="2656" h="1638">
                <a:moveTo>
                  <a:pt x="8855" y="6648"/>
                </a:moveTo>
                <a:cubicBezTo>
                  <a:pt x="8884" y="6732"/>
                  <a:pt x="8918" y="6702"/>
                  <a:pt x="8930" y="6623"/>
                </a:cubicBezTo>
                <a:cubicBezTo>
                  <a:pt x="8888" y="6656"/>
                  <a:pt x="8789" y="6681"/>
                  <a:pt x="8855" y="6747"/>
                </a:cubicBezTo>
                <a:cubicBezTo>
                  <a:pt x="8863" y="6747"/>
                  <a:pt x="8872" y="6747"/>
                  <a:pt x="8880" y="6747"/>
                </a:cubicBezTo>
              </a:path>
              <a:path w="2656" h="1638">
                <a:moveTo>
                  <a:pt x="9302" y="6524"/>
                </a:moveTo>
                <a:cubicBezTo>
                  <a:pt x="9323" y="6628"/>
                  <a:pt x="9327" y="6715"/>
                  <a:pt x="9327" y="6821"/>
                </a:cubicBezTo>
                <a:cubicBezTo>
                  <a:pt x="9327" y="6915"/>
                  <a:pt x="9351" y="6998"/>
                  <a:pt x="9351" y="7094"/>
                </a:cubicBezTo>
                <a:cubicBezTo>
                  <a:pt x="9351" y="7178"/>
                  <a:pt x="9393" y="7239"/>
                  <a:pt x="9351" y="7218"/>
                </a:cubicBezTo>
                <a:cubicBezTo>
                  <a:pt x="9351" y="7146"/>
                  <a:pt x="9346" y="7062"/>
                  <a:pt x="9327" y="6995"/>
                </a:cubicBezTo>
                <a:cubicBezTo>
                  <a:pt x="9302" y="6906"/>
                  <a:pt x="9281" y="6818"/>
                  <a:pt x="9277" y="6722"/>
                </a:cubicBezTo>
                <a:cubicBezTo>
                  <a:pt x="9274" y="6642"/>
                  <a:pt x="9257" y="6521"/>
                  <a:pt x="9302" y="6449"/>
                </a:cubicBezTo>
                <a:cubicBezTo>
                  <a:pt x="9352" y="6367"/>
                  <a:pt x="9474" y="6346"/>
                  <a:pt x="9550" y="6325"/>
                </a:cubicBezTo>
                <a:cubicBezTo>
                  <a:pt x="9632" y="6303"/>
                  <a:pt x="9748" y="6289"/>
                  <a:pt x="9823" y="6251"/>
                </a:cubicBezTo>
                <a:cubicBezTo>
                  <a:pt x="9831" y="6243"/>
                  <a:pt x="9839" y="6234"/>
                  <a:pt x="9847" y="6226"/>
                </a:cubicBezTo>
              </a:path>
              <a:path w="2656" h="1638">
                <a:moveTo>
                  <a:pt x="10071" y="6003"/>
                </a:moveTo>
                <a:cubicBezTo>
                  <a:pt x="10071" y="6086"/>
                  <a:pt x="10071" y="6168"/>
                  <a:pt x="10071" y="6251"/>
                </a:cubicBezTo>
                <a:cubicBezTo>
                  <a:pt x="10101" y="6201"/>
                  <a:pt x="10096" y="6151"/>
                  <a:pt x="10120" y="6102"/>
                </a:cubicBezTo>
                <a:cubicBezTo>
                  <a:pt x="10146" y="6050"/>
                  <a:pt x="10147" y="5981"/>
                  <a:pt x="10195" y="5953"/>
                </a:cubicBezTo>
                <a:cubicBezTo>
                  <a:pt x="10240" y="5927"/>
                  <a:pt x="10312" y="5931"/>
                  <a:pt x="10344" y="5978"/>
                </a:cubicBezTo>
                <a:cubicBezTo>
                  <a:pt x="10386" y="6040"/>
                  <a:pt x="10380" y="6091"/>
                  <a:pt x="10418" y="6152"/>
                </a:cubicBezTo>
                <a:cubicBezTo>
                  <a:pt x="10437" y="6183"/>
                  <a:pt x="10462" y="6193"/>
                  <a:pt x="10492" y="6201"/>
                </a:cubicBezTo>
              </a:path>
              <a:path w="2656" h="1638">
                <a:moveTo>
                  <a:pt x="10641" y="5978"/>
                </a:moveTo>
                <a:cubicBezTo>
                  <a:pt x="10740" y="5960"/>
                  <a:pt x="10816" y="5953"/>
                  <a:pt x="10914" y="5953"/>
                </a:cubicBezTo>
              </a:path>
              <a:path w="2656" h="1638">
                <a:moveTo>
                  <a:pt x="11063" y="5755"/>
                </a:moveTo>
                <a:cubicBezTo>
                  <a:pt x="11044" y="5822"/>
                  <a:pt x="10995" y="5933"/>
                  <a:pt x="11013" y="6003"/>
                </a:cubicBezTo>
                <a:cubicBezTo>
                  <a:pt x="11021" y="6036"/>
                  <a:pt x="11038" y="6057"/>
                  <a:pt x="11038" y="6102"/>
                </a:cubicBezTo>
              </a:path>
              <a:path w="2656" h="1638">
                <a:moveTo>
                  <a:pt x="10071" y="5606"/>
                </a:moveTo>
                <a:cubicBezTo>
                  <a:pt x="9996" y="5718"/>
                  <a:pt x="9903" y="5815"/>
                  <a:pt x="9897" y="5953"/>
                </a:cubicBezTo>
                <a:cubicBezTo>
                  <a:pt x="9892" y="6060"/>
                  <a:pt x="9898" y="6120"/>
                  <a:pt x="9971" y="6201"/>
                </a:cubicBezTo>
                <a:cubicBezTo>
                  <a:pt x="10056" y="6296"/>
                  <a:pt x="10151" y="6318"/>
                  <a:pt x="10269" y="6350"/>
                </a:cubicBezTo>
              </a:path>
              <a:path w="2656" h="1638">
                <a:moveTo>
                  <a:pt x="11336" y="5606"/>
                </a:moveTo>
                <a:cubicBezTo>
                  <a:pt x="11434" y="5947"/>
                  <a:pt x="11548" y="6050"/>
                  <a:pt x="11435" y="6325"/>
                </a:cubicBezTo>
                <a:cubicBezTo>
                  <a:pt x="11427" y="6342"/>
                  <a:pt x="11418" y="6358"/>
                  <a:pt x="11410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Ink 7"/>
          <p:cNvSpPr/>
          <p:nvPr/>
        </p:nvSpPr>
        <p:spPr>
          <a:xfrm>
            <a:off x="1758960" y="2768760"/>
            <a:ext cx="2357280" cy="1106280"/>
          </a:xfrm>
          <a:custGeom>
            <a:avLst/>
            <a:gdLst/>
            <a:ahLst/>
            <a:rect l="l" t="t" r="r" b="b"/>
            <a:pathLst>
              <a:path w="6549" h="3077">
                <a:moveTo>
                  <a:pt x="5730" y="9599"/>
                </a:moveTo>
                <a:cubicBezTo>
                  <a:pt x="5730" y="9488"/>
                  <a:pt x="5716" y="9381"/>
                  <a:pt x="5705" y="9277"/>
                </a:cubicBezTo>
                <a:cubicBezTo>
                  <a:pt x="5693" y="9165"/>
                  <a:pt x="5687" y="9062"/>
                  <a:pt x="5655" y="8954"/>
                </a:cubicBezTo>
                <a:cubicBezTo>
                  <a:pt x="5634" y="8883"/>
                  <a:pt x="5587" y="8734"/>
                  <a:pt x="5531" y="8682"/>
                </a:cubicBezTo>
                <a:cubicBezTo>
                  <a:pt x="5478" y="8633"/>
                  <a:pt x="5336" y="8653"/>
                  <a:pt x="5283" y="8682"/>
                </a:cubicBezTo>
                <a:cubicBezTo>
                  <a:pt x="5200" y="8727"/>
                  <a:pt x="5147" y="8828"/>
                  <a:pt x="5110" y="8905"/>
                </a:cubicBezTo>
                <a:cubicBezTo>
                  <a:pt x="5044" y="9040"/>
                  <a:pt x="5003" y="9158"/>
                  <a:pt x="4961" y="9302"/>
                </a:cubicBezTo>
                <a:cubicBezTo>
                  <a:pt x="4920" y="9442"/>
                  <a:pt x="4880" y="9627"/>
                  <a:pt x="4887" y="9773"/>
                </a:cubicBezTo>
                <a:cubicBezTo>
                  <a:pt x="4893" y="9902"/>
                  <a:pt x="4924" y="10044"/>
                  <a:pt x="4961" y="10170"/>
                </a:cubicBezTo>
                <a:cubicBezTo>
                  <a:pt x="4986" y="10257"/>
                  <a:pt x="5039" y="10366"/>
                  <a:pt x="5135" y="10393"/>
                </a:cubicBezTo>
                <a:cubicBezTo>
                  <a:pt x="5268" y="10430"/>
                  <a:pt x="5350" y="10350"/>
                  <a:pt x="5432" y="10269"/>
                </a:cubicBezTo>
                <a:cubicBezTo>
                  <a:pt x="5507" y="10194"/>
                  <a:pt x="5523" y="10096"/>
                  <a:pt x="5556" y="9996"/>
                </a:cubicBezTo>
                <a:cubicBezTo>
                  <a:pt x="5583" y="9914"/>
                  <a:pt x="5621" y="9831"/>
                  <a:pt x="5631" y="9748"/>
                </a:cubicBezTo>
                <a:cubicBezTo>
                  <a:pt x="5631" y="9723"/>
                  <a:pt x="5631" y="9699"/>
                  <a:pt x="5631" y="9674"/>
                </a:cubicBezTo>
                <a:cubicBezTo>
                  <a:pt x="5611" y="9729"/>
                  <a:pt x="5585" y="9780"/>
                  <a:pt x="5581" y="9847"/>
                </a:cubicBezTo>
                <a:cubicBezTo>
                  <a:pt x="5575" y="9959"/>
                  <a:pt x="5592" y="10065"/>
                  <a:pt x="5631" y="10170"/>
                </a:cubicBezTo>
                <a:cubicBezTo>
                  <a:pt x="5655" y="10234"/>
                  <a:pt x="5695" y="10289"/>
                  <a:pt x="5730" y="10344"/>
                </a:cubicBezTo>
              </a:path>
              <a:path w="6549" h="3077">
                <a:moveTo>
                  <a:pt x="5804" y="10319"/>
                </a:moveTo>
                <a:cubicBezTo>
                  <a:pt x="5841" y="10255"/>
                  <a:pt x="5869" y="10220"/>
                  <a:pt x="5953" y="10244"/>
                </a:cubicBezTo>
                <a:cubicBezTo>
                  <a:pt x="6060" y="10274"/>
                  <a:pt x="6018" y="10376"/>
                  <a:pt x="5978" y="10443"/>
                </a:cubicBezTo>
                <a:cubicBezTo>
                  <a:pt x="5955" y="10482"/>
                  <a:pt x="5906" y="10530"/>
                  <a:pt x="5879" y="10567"/>
                </a:cubicBezTo>
                <a:cubicBezTo>
                  <a:pt x="5848" y="10608"/>
                  <a:pt x="5789" y="10641"/>
                  <a:pt x="5854" y="10691"/>
                </a:cubicBezTo>
                <a:cubicBezTo>
                  <a:pt x="5914" y="10737"/>
                  <a:pt x="6014" y="10711"/>
                  <a:pt x="6077" y="10691"/>
                </a:cubicBezTo>
                <a:cubicBezTo>
                  <a:pt x="6094" y="10683"/>
                  <a:pt x="6110" y="10674"/>
                  <a:pt x="6127" y="10666"/>
                </a:cubicBezTo>
              </a:path>
              <a:path w="6549" h="3077">
                <a:moveTo>
                  <a:pt x="6176" y="10294"/>
                </a:moveTo>
                <a:cubicBezTo>
                  <a:pt x="6222" y="10301"/>
                  <a:pt x="6291" y="10328"/>
                  <a:pt x="6325" y="10368"/>
                </a:cubicBezTo>
                <a:cubicBezTo>
                  <a:pt x="6378" y="10430"/>
                  <a:pt x="6339" y="10489"/>
                  <a:pt x="6300" y="10542"/>
                </a:cubicBezTo>
                <a:cubicBezTo>
                  <a:pt x="6264" y="10591"/>
                  <a:pt x="6152" y="10644"/>
                  <a:pt x="6176" y="10716"/>
                </a:cubicBezTo>
                <a:cubicBezTo>
                  <a:pt x="6197" y="10778"/>
                  <a:pt x="6277" y="10765"/>
                  <a:pt x="6325" y="10765"/>
                </a:cubicBezTo>
                <a:cubicBezTo>
                  <a:pt x="6393" y="10765"/>
                  <a:pt x="6436" y="10761"/>
                  <a:pt x="6499" y="10740"/>
                </a:cubicBezTo>
              </a:path>
              <a:path w="6549" h="3077">
                <a:moveTo>
                  <a:pt x="6524" y="9525"/>
                </a:moveTo>
                <a:cubicBezTo>
                  <a:pt x="6595" y="9525"/>
                  <a:pt x="6633" y="9548"/>
                  <a:pt x="6697" y="9550"/>
                </a:cubicBezTo>
                <a:cubicBezTo>
                  <a:pt x="6799" y="9553"/>
                  <a:pt x="6859" y="9570"/>
                  <a:pt x="6945" y="9575"/>
                </a:cubicBezTo>
                <a:cubicBezTo>
                  <a:pt x="6962" y="9575"/>
                  <a:pt x="6978" y="9575"/>
                  <a:pt x="6995" y="9575"/>
                </a:cubicBezTo>
              </a:path>
              <a:path w="6549" h="3077">
                <a:moveTo>
                  <a:pt x="6524" y="9723"/>
                </a:moveTo>
                <a:cubicBezTo>
                  <a:pt x="6591" y="9746"/>
                  <a:pt x="6677" y="9764"/>
                  <a:pt x="6747" y="9773"/>
                </a:cubicBezTo>
                <a:cubicBezTo>
                  <a:pt x="6756" y="9774"/>
                  <a:pt x="6966" y="9773"/>
                  <a:pt x="6896" y="9773"/>
                </a:cubicBezTo>
              </a:path>
              <a:path w="6549" h="3077">
                <a:moveTo>
                  <a:pt x="7293" y="8880"/>
                </a:moveTo>
                <a:cubicBezTo>
                  <a:pt x="7262" y="8942"/>
                  <a:pt x="7224" y="8994"/>
                  <a:pt x="7193" y="9054"/>
                </a:cubicBezTo>
                <a:cubicBezTo>
                  <a:pt x="7168" y="9103"/>
                  <a:pt x="7129" y="9156"/>
                  <a:pt x="7119" y="9203"/>
                </a:cubicBezTo>
                <a:cubicBezTo>
                  <a:pt x="7105" y="9270"/>
                  <a:pt x="7151" y="9309"/>
                  <a:pt x="7193" y="9351"/>
                </a:cubicBezTo>
                <a:cubicBezTo>
                  <a:pt x="7222" y="9380"/>
                  <a:pt x="7326" y="9397"/>
                  <a:pt x="7367" y="9401"/>
                </a:cubicBezTo>
                <a:cubicBezTo>
                  <a:pt x="7530" y="9419"/>
                  <a:pt x="7490" y="9444"/>
                  <a:pt x="7640" y="9401"/>
                </a:cubicBezTo>
                <a:cubicBezTo>
                  <a:pt x="7687" y="9387"/>
                  <a:pt x="7740" y="9382"/>
                  <a:pt x="7789" y="9376"/>
                </a:cubicBezTo>
              </a:path>
              <a:path w="6549" h="3077">
                <a:moveTo>
                  <a:pt x="7640" y="8632"/>
                </a:moveTo>
                <a:cubicBezTo>
                  <a:pt x="7632" y="8615"/>
                  <a:pt x="7623" y="8599"/>
                  <a:pt x="7615" y="8582"/>
                </a:cubicBezTo>
                <a:cubicBezTo>
                  <a:pt x="7578" y="8655"/>
                  <a:pt x="7590" y="8742"/>
                  <a:pt x="7590" y="8830"/>
                </a:cubicBezTo>
                <a:cubicBezTo>
                  <a:pt x="7590" y="8950"/>
                  <a:pt x="7559" y="9090"/>
                  <a:pt x="7565" y="9203"/>
                </a:cubicBezTo>
                <a:cubicBezTo>
                  <a:pt x="7573" y="9343"/>
                  <a:pt x="7590" y="9480"/>
                  <a:pt x="7590" y="9624"/>
                </a:cubicBezTo>
                <a:cubicBezTo>
                  <a:pt x="7590" y="9760"/>
                  <a:pt x="7615" y="9885"/>
                  <a:pt x="7615" y="10021"/>
                </a:cubicBezTo>
                <a:cubicBezTo>
                  <a:pt x="7615" y="10135"/>
                  <a:pt x="7561" y="10363"/>
                  <a:pt x="7665" y="10294"/>
                </a:cubicBezTo>
              </a:path>
              <a:path w="6549" h="3077">
                <a:moveTo>
                  <a:pt x="8210" y="9599"/>
                </a:moveTo>
                <a:cubicBezTo>
                  <a:pt x="8190" y="9550"/>
                  <a:pt x="8132" y="9550"/>
                  <a:pt x="8111" y="9624"/>
                </a:cubicBezTo>
                <a:cubicBezTo>
                  <a:pt x="8111" y="9669"/>
                  <a:pt x="8108" y="9682"/>
                  <a:pt x="8136" y="9699"/>
                </a:cubicBezTo>
                <a:cubicBezTo>
                  <a:pt x="8227" y="9662"/>
                  <a:pt x="8223" y="9685"/>
                  <a:pt x="8235" y="9599"/>
                </a:cubicBezTo>
                <a:cubicBezTo>
                  <a:pt x="8180" y="9545"/>
                  <a:pt x="8155" y="9561"/>
                  <a:pt x="8086" y="9624"/>
                </a:cubicBezTo>
                <a:cubicBezTo>
                  <a:pt x="8008" y="9695"/>
                  <a:pt x="8138" y="9743"/>
                  <a:pt x="8186" y="9748"/>
                </a:cubicBezTo>
                <a:cubicBezTo>
                  <a:pt x="8260" y="9755"/>
                  <a:pt x="8281" y="9712"/>
                  <a:pt x="8285" y="9649"/>
                </a:cubicBezTo>
                <a:cubicBezTo>
                  <a:pt x="8291" y="9548"/>
                  <a:pt x="8229" y="9574"/>
                  <a:pt x="8161" y="9599"/>
                </a:cubicBezTo>
                <a:cubicBezTo>
                  <a:pt x="8136" y="9624"/>
                  <a:pt x="8128" y="9632"/>
                  <a:pt x="8161" y="9649"/>
                </a:cubicBezTo>
                <a:cubicBezTo>
                  <a:pt x="8215" y="9622"/>
                  <a:pt x="8317" y="9628"/>
                  <a:pt x="8285" y="9525"/>
                </a:cubicBezTo>
                <a:cubicBezTo>
                  <a:pt x="8255" y="9429"/>
                  <a:pt x="8065" y="9526"/>
                  <a:pt x="8012" y="9550"/>
                </a:cubicBezTo>
              </a:path>
              <a:path w="6549" h="3077">
                <a:moveTo>
                  <a:pt x="8781" y="8657"/>
                </a:moveTo>
                <a:cubicBezTo>
                  <a:pt x="8759" y="8716"/>
                  <a:pt x="8756" y="8742"/>
                  <a:pt x="8756" y="8806"/>
                </a:cubicBezTo>
                <a:cubicBezTo>
                  <a:pt x="8795" y="8745"/>
                  <a:pt x="8830" y="8685"/>
                  <a:pt x="8880" y="8632"/>
                </a:cubicBezTo>
                <a:cubicBezTo>
                  <a:pt x="8926" y="8583"/>
                  <a:pt x="8981" y="8543"/>
                  <a:pt x="9054" y="8558"/>
                </a:cubicBezTo>
                <a:cubicBezTo>
                  <a:pt x="9116" y="8571"/>
                  <a:pt x="9151" y="8632"/>
                  <a:pt x="9178" y="8682"/>
                </a:cubicBezTo>
                <a:cubicBezTo>
                  <a:pt x="9264" y="8843"/>
                  <a:pt x="9277" y="8998"/>
                  <a:pt x="9277" y="9178"/>
                </a:cubicBezTo>
                <a:cubicBezTo>
                  <a:pt x="9277" y="9345"/>
                  <a:pt x="9288" y="9511"/>
                  <a:pt x="9252" y="9674"/>
                </a:cubicBezTo>
                <a:cubicBezTo>
                  <a:pt x="9225" y="9799"/>
                  <a:pt x="9190" y="9924"/>
                  <a:pt x="9153" y="10046"/>
                </a:cubicBezTo>
                <a:cubicBezTo>
                  <a:pt x="9126" y="10136"/>
                  <a:pt x="9084" y="10222"/>
                  <a:pt x="9004" y="10269"/>
                </a:cubicBezTo>
                <a:cubicBezTo>
                  <a:pt x="8935" y="10310"/>
                  <a:pt x="8909" y="10339"/>
                  <a:pt x="8830" y="10294"/>
                </a:cubicBezTo>
                <a:cubicBezTo>
                  <a:pt x="8762" y="10255"/>
                  <a:pt x="8700" y="10201"/>
                  <a:pt x="8682" y="10120"/>
                </a:cubicBezTo>
                <a:cubicBezTo>
                  <a:pt x="8663" y="10034"/>
                  <a:pt x="8649" y="9985"/>
                  <a:pt x="8682" y="9897"/>
                </a:cubicBezTo>
                <a:cubicBezTo>
                  <a:pt x="8708" y="9827"/>
                  <a:pt x="8738" y="9805"/>
                  <a:pt x="8806" y="9798"/>
                </a:cubicBezTo>
                <a:cubicBezTo>
                  <a:pt x="8862" y="9792"/>
                  <a:pt x="8984" y="9842"/>
                  <a:pt x="9029" y="9872"/>
                </a:cubicBezTo>
                <a:cubicBezTo>
                  <a:pt x="9115" y="9930"/>
                  <a:pt x="9169" y="10082"/>
                  <a:pt x="9203" y="10170"/>
                </a:cubicBezTo>
                <a:cubicBezTo>
                  <a:pt x="9233" y="10247"/>
                  <a:pt x="9249" y="10319"/>
                  <a:pt x="9277" y="10393"/>
                </a:cubicBezTo>
              </a:path>
              <a:path w="6549" h="3077">
                <a:moveTo>
                  <a:pt x="9550" y="8111"/>
                </a:moveTo>
                <a:cubicBezTo>
                  <a:pt x="9550" y="8178"/>
                  <a:pt x="9546" y="8249"/>
                  <a:pt x="9525" y="8310"/>
                </a:cubicBezTo>
                <a:cubicBezTo>
                  <a:pt x="9497" y="8392"/>
                  <a:pt x="9479" y="8471"/>
                  <a:pt x="9475" y="8558"/>
                </a:cubicBezTo>
                <a:cubicBezTo>
                  <a:pt x="9471" y="8640"/>
                  <a:pt x="9485" y="8665"/>
                  <a:pt x="9525" y="8731"/>
                </a:cubicBezTo>
                <a:cubicBezTo>
                  <a:pt x="9571" y="8807"/>
                  <a:pt x="9566" y="8829"/>
                  <a:pt x="9649" y="8806"/>
                </a:cubicBezTo>
              </a:path>
              <a:path w="6549" h="3077">
                <a:moveTo>
                  <a:pt x="9723" y="8186"/>
                </a:moveTo>
                <a:cubicBezTo>
                  <a:pt x="9774" y="8115"/>
                  <a:pt x="9794" y="8094"/>
                  <a:pt x="9872" y="8136"/>
                </a:cubicBezTo>
                <a:cubicBezTo>
                  <a:pt x="9953" y="8180"/>
                  <a:pt x="9964" y="8202"/>
                  <a:pt x="9922" y="8285"/>
                </a:cubicBezTo>
                <a:cubicBezTo>
                  <a:pt x="9894" y="8341"/>
                  <a:pt x="9859" y="8406"/>
                  <a:pt x="9823" y="8458"/>
                </a:cubicBezTo>
                <a:cubicBezTo>
                  <a:pt x="9797" y="8496"/>
                  <a:pt x="9731" y="8581"/>
                  <a:pt x="9748" y="8632"/>
                </a:cubicBezTo>
                <a:cubicBezTo>
                  <a:pt x="9765" y="8682"/>
                  <a:pt x="9831" y="8704"/>
                  <a:pt x="9872" y="8706"/>
                </a:cubicBezTo>
                <a:cubicBezTo>
                  <a:pt x="9932" y="8709"/>
                  <a:pt x="9972" y="8706"/>
                  <a:pt x="10021" y="8682"/>
                </a:cubicBezTo>
              </a:path>
              <a:path w="6549" h="3077">
                <a:moveTo>
                  <a:pt x="10096" y="8136"/>
                </a:moveTo>
                <a:cubicBezTo>
                  <a:pt x="10151" y="8102"/>
                  <a:pt x="10207" y="8098"/>
                  <a:pt x="10269" y="8136"/>
                </a:cubicBezTo>
                <a:cubicBezTo>
                  <a:pt x="10350" y="8186"/>
                  <a:pt x="10316" y="8292"/>
                  <a:pt x="10294" y="8359"/>
                </a:cubicBezTo>
                <a:cubicBezTo>
                  <a:pt x="10272" y="8425"/>
                  <a:pt x="10247" y="8523"/>
                  <a:pt x="10220" y="8582"/>
                </a:cubicBezTo>
                <a:cubicBezTo>
                  <a:pt x="10191" y="8644"/>
                  <a:pt x="10268" y="8676"/>
                  <a:pt x="10344" y="8657"/>
                </a:cubicBezTo>
                <a:cubicBezTo>
                  <a:pt x="10378" y="8648"/>
                  <a:pt x="10428" y="8622"/>
                  <a:pt x="10468" y="8607"/>
                </a:cubicBezTo>
              </a:path>
              <a:path w="6549" h="3077">
                <a:moveTo>
                  <a:pt x="10542" y="8310"/>
                </a:moveTo>
                <a:cubicBezTo>
                  <a:pt x="10632" y="8310"/>
                  <a:pt x="10706" y="8299"/>
                  <a:pt x="10790" y="8285"/>
                </a:cubicBezTo>
                <a:cubicBezTo>
                  <a:pt x="10807" y="8285"/>
                  <a:pt x="10823" y="8285"/>
                  <a:pt x="10840" y="8285"/>
                </a:cubicBezTo>
              </a:path>
              <a:path w="6549" h="3077">
                <a:moveTo>
                  <a:pt x="11013" y="7962"/>
                </a:moveTo>
                <a:cubicBezTo>
                  <a:pt x="11013" y="8139"/>
                  <a:pt x="11010" y="8315"/>
                  <a:pt x="11038" y="8483"/>
                </a:cubicBezTo>
                <a:cubicBezTo>
                  <a:pt x="11048" y="8545"/>
                  <a:pt x="11011" y="8620"/>
                  <a:pt x="11088" y="8582"/>
                </a:cubicBezTo>
              </a:path>
              <a:path w="6549" h="3077">
                <a:moveTo>
                  <a:pt x="11212" y="7689"/>
                </a:moveTo>
                <a:cubicBezTo>
                  <a:pt x="11343" y="7880"/>
                  <a:pt x="11429" y="7981"/>
                  <a:pt x="11435" y="8210"/>
                </a:cubicBezTo>
                <a:cubicBezTo>
                  <a:pt x="11439" y="8363"/>
                  <a:pt x="11368" y="8467"/>
                  <a:pt x="11286" y="8582"/>
                </a:cubicBezTo>
                <a:cubicBezTo>
                  <a:pt x="11270" y="8607"/>
                  <a:pt x="11253" y="8632"/>
                  <a:pt x="11237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Ink 8"/>
          <p:cNvSpPr/>
          <p:nvPr/>
        </p:nvSpPr>
        <p:spPr>
          <a:xfrm>
            <a:off x="1776240" y="4089240"/>
            <a:ext cx="812880" cy="598680"/>
          </a:xfrm>
          <a:custGeom>
            <a:avLst/>
            <a:gdLst/>
            <a:ahLst/>
            <a:rect l="l" t="t" r="r" b="b"/>
            <a:pathLst>
              <a:path w="2258" h="1662">
                <a:moveTo>
                  <a:pt x="5705" y="12154"/>
                </a:moveTo>
                <a:cubicBezTo>
                  <a:pt x="5734" y="12086"/>
                  <a:pt x="5730" y="12012"/>
                  <a:pt x="5730" y="11931"/>
                </a:cubicBezTo>
                <a:cubicBezTo>
                  <a:pt x="5730" y="11842"/>
                  <a:pt x="5693" y="11767"/>
                  <a:pt x="5680" y="11683"/>
                </a:cubicBezTo>
                <a:cubicBezTo>
                  <a:pt x="5667" y="11601"/>
                  <a:pt x="5648" y="11554"/>
                  <a:pt x="5606" y="11485"/>
                </a:cubicBezTo>
                <a:cubicBezTo>
                  <a:pt x="5578" y="11439"/>
                  <a:pt x="5518" y="11372"/>
                  <a:pt x="5457" y="11361"/>
                </a:cubicBezTo>
                <a:cubicBezTo>
                  <a:pt x="5396" y="11350"/>
                  <a:pt x="5300" y="11387"/>
                  <a:pt x="5259" y="11435"/>
                </a:cubicBezTo>
                <a:cubicBezTo>
                  <a:pt x="5184" y="11523"/>
                  <a:pt x="5139" y="11608"/>
                  <a:pt x="5085" y="11708"/>
                </a:cubicBezTo>
                <a:cubicBezTo>
                  <a:pt x="5010" y="11846"/>
                  <a:pt x="4991" y="11974"/>
                  <a:pt x="4961" y="12129"/>
                </a:cubicBezTo>
                <a:cubicBezTo>
                  <a:pt x="4935" y="12268"/>
                  <a:pt x="4942" y="12341"/>
                  <a:pt x="4986" y="12477"/>
                </a:cubicBezTo>
                <a:cubicBezTo>
                  <a:pt x="5016" y="12569"/>
                  <a:pt x="5041" y="12634"/>
                  <a:pt x="5135" y="12675"/>
                </a:cubicBezTo>
                <a:cubicBezTo>
                  <a:pt x="5233" y="12718"/>
                  <a:pt x="5283" y="12734"/>
                  <a:pt x="5383" y="12700"/>
                </a:cubicBezTo>
                <a:cubicBezTo>
                  <a:pt x="5454" y="12676"/>
                  <a:pt x="5526" y="12652"/>
                  <a:pt x="5581" y="12601"/>
                </a:cubicBezTo>
                <a:cubicBezTo>
                  <a:pt x="5642" y="12544"/>
                  <a:pt x="5667" y="12473"/>
                  <a:pt x="5680" y="12402"/>
                </a:cubicBezTo>
                <a:cubicBezTo>
                  <a:pt x="5693" y="12334"/>
                  <a:pt x="5705" y="12276"/>
                  <a:pt x="5705" y="12204"/>
                </a:cubicBezTo>
                <a:cubicBezTo>
                  <a:pt x="5676" y="12281"/>
                  <a:pt x="5680" y="12342"/>
                  <a:pt x="5680" y="12427"/>
                </a:cubicBezTo>
                <a:cubicBezTo>
                  <a:pt x="5680" y="12505"/>
                  <a:pt x="5702" y="12602"/>
                  <a:pt x="5730" y="12675"/>
                </a:cubicBezTo>
                <a:cubicBezTo>
                  <a:pt x="5747" y="12719"/>
                  <a:pt x="5780" y="12758"/>
                  <a:pt x="5804" y="12799"/>
                </a:cubicBezTo>
              </a:path>
              <a:path w="2258" h="1662">
                <a:moveTo>
                  <a:pt x="5879" y="12427"/>
                </a:moveTo>
                <a:cubicBezTo>
                  <a:pt x="5952" y="12399"/>
                  <a:pt x="5986" y="12392"/>
                  <a:pt x="6052" y="12427"/>
                </a:cubicBezTo>
                <a:cubicBezTo>
                  <a:pt x="6117" y="12462"/>
                  <a:pt x="6148" y="12505"/>
                  <a:pt x="6152" y="12576"/>
                </a:cubicBezTo>
                <a:cubicBezTo>
                  <a:pt x="6157" y="12656"/>
                  <a:pt x="6147" y="12730"/>
                  <a:pt x="6102" y="12799"/>
                </a:cubicBezTo>
                <a:cubicBezTo>
                  <a:pt x="6076" y="12840"/>
                  <a:pt x="6029" y="12886"/>
                  <a:pt x="5978" y="12874"/>
                </a:cubicBezTo>
                <a:cubicBezTo>
                  <a:pt x="5911" y="12858"/>
                  <a:pt x="5882" y="12809"/>
                  <a:pt x="5879" y="12750"/>
                </a:cubicBezTo>
                <a:cubicBezTo>
                  <a:pt x="5876" y="12698"/>
                  <a:pt x="5894" y="12635"/>
                  <a:pt x="5953" y="12650"/>
                </a:cubicBezTo>
                <a:cubicBezTo>
                  <a:pt x="6024" y="12668"/>
                  <a:pt x="6039" y="12724"/>
                  <a:pt x="6077" y="12774"/>
                </a:cubicBezTo>
                <a:cubicBezTo>
                  <a:pt x="6096" y="12800"/>
                  <a:pt x="6170" y="12860"/>
                  <a:pt x="6201" y="12874"/>
                </a:cubicBezTo>
                <a:cubicBezTo>
                  <a:pt x="6209" y="12874"/>
                  <a:pt x="6218" y="12874"/>
                  <a:pt x="6226" y="12874"/>
                </a:cubicBezTo>
              </a:path>
              <a:path w="2258" h="1662">
                <a:moveTo>
                  <a:pt x="6400" y="12452"/>
                </a:moveTo>
                <a:cubicBezTo>
                  <a:pt x="6392" y="12469"/>
                  <a:pt x="6383" y="12485"/>
                  <a:pt x="6375" y="12502"/>
                </a:cubicBezTo>
                <a:cubicBezTo>
                  <a:pt x="6411" y="12466"/>
                  <a:pt x="6447" y="12414"/>
                  <a:pt x="6499" y="12402"/>
                </a:cubicBezTo>
                <a:cubicBezTo>
                  <a:pt x="6571" y="12385"/>
                  <a:pt x="6626" y="12489"/>
                  <a:pt x="6623" y="12551"/>
                </a:cubicBezTo>
                <a:cubicBezTo>
                  <a:pt x="6621" y="12598"/>
                  <a:pt x="6609" y="12700"/>
                  <a:pt x="6598" y="12750"/>
                </a:cubicBezTo>
                <a:cubicBezTo>
                  <a:pt x="6582" y="12824"/>
                  <a:pt x="6541" y="12943"/>
                  <a:pt x="6499" y="12998"/>
                </a:cubicBezTo>
                <a:cubicBezTo>
                  <a:pt x="6470" y="13026"/>
                  <a:pt x="6457" y="13034"/>
                  <a:pt x="6424" y="13022"/>
                </a:cubicBezTo>
                <a:cubicBezTo>
                  <a:pt x="6385" y="12964"/>
                  <a:pt x="6348" y="12874"/>
                  <a:pt x="6375" y="12799"/>
                </a:cubicBezTo>
                <a:cubicBezTo>
                  <a:pt x="6401" y="12727"/>
                  <a:pt x="6458" y="12768"/>
                  <a:pt x="6499" y="12799"/>
                </a:cubicBezTo>
                <a:cubicBezTo>
                  <a:pt x="6536" y="12827"/>
                  <a:pt x="6619" y="12889"/>
                  <a:pt x="6648" y="12923"/>
                </a:cubicBezTo>
                <a:cubicBezTo>
                  <a:pt x="6689" y="12972"/>
                  <a:pt x="6679" y="12984"/>
                  <a:pt x="6747" y="12998"/>
                </a:cubicBezTo>
              </a:path>
              <a:path w="2258" h="1662">
                <a:moveTo>
                  <a:pt x="6921" y="11931"/>
                </a:moveTo>
                <a:cubicBezTo>
                  <a:pt x="7019" y="11916"/>
                  <a:pt x="7089" y="11901"/>
                  <a:pt x="7169" y="11881"/>
                </a:cubicBezTo>
              </a:path>
              <a:path w="2258" h="1662">
                <a:moveTo>
                  <a:pt x="6970" y="12055"/>
                </a:moveTo>
                <a:cubicBezTo>
                  <a:pt x="7060" y="12100"/>
                  <a:pt x="7093" y="12105"/>
                  <a:pt x="7193" y="121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Ink 9"/>
          <p:cNvSpPr/>
          <p:nvPr/>
        </p:nvSpPr>
        <p:spPr>
          <a:xfrm>
            <a:off x="2714760" y="4089240"/>
            <a:ext cx="268200" cy="546120"/>
          </a:xfrm>
          <a:custGeom>
            <a:avLst/>
            <a:gdLst/>
            <a:ahLst/>
            <a:rect l="l" t="t" r="r" b="b"/>
            <a:pathLst>
              <a:path w="745" h="1514">
                <a:moveTo>
                  <a:pt x="8136" y="11509"/>
                </a:moveTo>
                <a:cubicBezTo>
                  <a:pt x="8071" y="11473"/>
                  <a:pt x="8027" y="11421"/>
                  <a:pt x="7962" y="11385"/>
                </a:cubicBezTo>
                <a:cubicBezTo>
                  <a:pt x="7867" y="11333"/>
                  <a:pt x="7683" y="11359"/>
                  <a:pt x="7590" y="11385"/>
                </a:cubicBezTo>
                <a:cubicBezTo>
                  <a:pt x="7533" y="11401"/>
                  <a:pt x="7532" y="11491"/>
                  <a:pt x="7541" y="11534"/>
                </a:cubicBezTo>
                <a:cubicBezTo>
                  <a:pt x="7566" y="11651"/>
                  <a:pt x="7679" y="11754"/>
                  <a:pt x="7739" y="11857"/>
                </a:cubicBezTo>
                <a:cubicBezTo>
                  <a:pt x="7814" y="11986"/>
                  <a:pt x="7911" y="12112"/>
                  <a:pt x="7962" y="12254"/>
                </a:cubicBezTo>
                <a:cubicBezTo>
                  <a:pt x="7985" y="12318"/>
                  <a:pt x="8057" y="12482"/>
                  <a:pt x="8037" y="12551"/>
                </a:cubicBezTo>
                <a:cubicBezTo>
                  <a:pt x="8029" y="12559"/>
                  <a:pt x="8020" y="12568"/>
                  <a:pt x="8012" y="12576"/>
                </a:cubicBezTo>
                <a:cubicBezTo>
                  <a:pt x="7925" y="12598"/>
                  <a:pt x="7907" y="12585"/>
                  <a:pt x="7863" y="12502"/>
                </a:cubicBezTo>
                <a:cubicBezTo>
                  <a:pt x="7824" y="12430"/>
                  <a:pt x="7793" y="12338"/>
                  <a:pt x="7813" y="12254"/>
                </a:cubicBezTo>
                <a:cubicBezTo>
                  <a:pt x="7831" y="12180"/>
                  <a:pt x="7843" y="12072"/>
                  <a:pt x="7888" y="12005"/>
                </a:cubicBezTo>
                <a:cubicBezTo>
                  <a:pt x="7942" y="11925"/>
                  <a:pt x="8003" y="11875"/>
                  <a:pt x="8062" y="11807"/>
                </a:cubicBezTo>
                <a:cubicBezTo>
                  <a:pt x="8093" y="11771"/>
                  <a:pt x="8144" y="11675"/>
                  <a:pt x="8161" y="11633"/>
                </a:cubicBezTo>
                <a:cubicBezTo>
                  <a:pt x="8161" y="11625"/>
                  <a:pt x="8161" y="11617"/>
                  <a:pt x="8161" y="11609"/>
                </a:cubicBezTo>
              </a:path>
              <a:path w="745" h="1514">
                <a:moveTo>
                  <a:pt x="8285" y="12650"/>
                </a:moveTo>
                <a:cubicBezTo>
                  <a:pt x="8285" y="12725"/>
                  <a:pt x="8285" y="12799"/>
                  <a:pt x="8285" y="128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Ink 10"/>
          <p:cNvSpPr/>
          <p:nvPr/>
        </p:nvSpPr>
        <p:spPr>
          <a:xfrm>
            <a:off x="3106800" y="4089240"/>
            <a:ext cx="1332000" cy="581040"/>
          </a:xfrm>
          <a:custGeom>
            <a:avLst/>
            <a:gdLst/>
            <a:ahLst/>
            <a:rect l="l" t="t" r="r" b="b"/>
            <a:pathLst>
              <a:path w="3697" h="1613">
                <a:moveTo>
                  <a:pt x="8632" y="11782"/>
                </a:moveTo>
                <a:cubicBezTo>
                  <a:pt x="8711" y="11654"/>
                  <a:pt x="8710" y="11658"/>
                  <a:pt x="8855" y="11658"/>
                </a:cubicBezTo>
                <a:cubicBezTo>
                  <a:pt x="8933" y="11658"/>
                  <a:pt x="8990" y="11722"/>
                  <a:pt x="8979" y="11807"/>
                </a:cubicBezTo>
                <a:cubicBezTo>
                  <a:pt x="8972" y="11861"/>
                  <a:pt x="8927" y="11972"/>
                  <a:pt x="8880" y="12005"/>
                </a:cubicBezTo>
                <a:cubicBezTo>
                  <a:pt x="8826" y="12043"/>
                  <a:pt x="8781" y="12050"/>
                  <a:pt x="8731" y="12080"/>
                </a:cubicBezTo>
                <a:cubicBezTo>
                  <a:pt x="8778" y="12103"/>
                  <a:pt x="8810" y="12065"/>
                  <a:pt x="8880" y="12080"/>
                </a:cubicBezTo>
                <a:cubicBezTo>
                  <a:pt x="8955" y="12096"/>
                  <a:pt x="9058" y="12117"/>
                  <a:pt x="9079" y="12204"/>
                </a:cubicBezTo>
                <a:cubicBezTo>
                  <a:pt x="9098" y="12285"/>
                  <a:pt x="9093" y="12458"/>
                  <a:pt x="9054" y="12526"/>
                </a:cubicBezTo>
                <a:cubicBezTo>
                  <a:pt x="9036" y="12556"/>
                  <a:pt x="8959" y="12620"/>
                  <a:pt x="8930" y="12626"/>
                </a:cubicBezTo>
                <a:cubicBezTo>
                  <a:pt x="8863" y="12639"/>
                  <a:pt x="8816" y="12605"/>
                  <a:pt x="8781" y="12551"/>
                </a:cubicBezTo>
                <a:cubicBezTo>
                  <a:pt x="8752" y="12495"/>
                  <a:pt x="8741" y="12471"/>
                  <a:pt x="8731" y="12427"/>
                </a:cubicBezTo>
              </a:path>
              <a:path w="3697" h="1613">
                <a:moveTo>
                  <a:pt x="9525" y="11733"/>
                </a:moveTo>
                <a:cubicBezTo>
                  <a:pt x="9494" y="11654"/>
                  <a:pt x="9469" y="11605"/>
                  <a:pt x="9376" y="11584"/>
                </a:cubicBezTo>
                <a:cubicBezTo>
                  <a:pt x="9297" y="11566"/>
                  <a:pt x="9236" y="11580"/>
                  <a:pt x="9227" y="11658"/>
                </a:cubicBezTo>
                <a:cubicBezTo>
                  <a:pt x="9213" y="11775"/>
                  <a:pt x="9294" y="11884"/>
                  <a:pt x="9351" y="11981"/>
                </a:cubicBezTo>
                <a:cubicBezTo>
                  <a:pt x="9413" y="12087"/>
                  <a:pt x="9482" y="12187"/>
                  <a:pt x="9525" y="12303"/>
                </a:cubicBezTo>
                <a:cubicBezTo>
                  <a:pt x="9559" y="12395"/>
                  <a:pt x="9558" y="12464"/>
                  <a:pt x="9525" y="12551"/>
                </a:cubicBezTo>
                <a:cubicBezTo>
                  <a:pt x="9405" y="12503"/>
                  <a:pt x="9424" y="12471"/>
                  <a:pt x="9376" y="12353"/>
                </a:cubicBezTo>
                <a:cubicBezTo>
                  <a:pt x="9347" y="12284"/>
                  <a:pt x="9351" y="12230"/>
                  <a:pt x="9351" y="12154"/>
                </a:cubicBezTo>
                <a:cubicBezTo>
                  <a:pt x="9351" y="12081"/>
                  <a:pt x="9370" y="12039"/>
                  <a:pt x="9401" y="11981"/>
                </a:cubicBezTo>
                <a:cubicBezTo>
                  <a:pt x="9425" y="11937"/>
                  <a:pt x="9458" y="11862"/>
                  <a:pt x="9500" y="11832"/>
                </a:cubicBezTo>
                <a:cubicBezTo>
                  <a:pt x="9517" y="11824"/>
                  <a:pt x="9533" y="11815"/>
                  <a:pt x="9550" y="11807"/>
                </a:cubicBezTo>
              </a:path>
              <a:path w="3697" h="1613">
                <a:moveTo>
                  <a:pt x="9922" y="11584"/>
                </a:moveTo>
                <a:cubicBezTo>
                  <a:pt x="9841" y="11564"/>
                  <a:pt x="9732" y="11520"/>
                  <a:pt x="9699" y="11633"/>
                </a:cubicBezTo>
                <a:cubicBezTo>
                  <a:pt x="9674" y="11719"/>
                  <a:pt x="9767" y="11795"/>
                  <a:pt x="9798" y="11857"/>
                </a:cubicBezTo>
                <a:cubicBezTo>
                  <a:pt x="9849" y="11958"/>
                  <a:pt x="9922" y="12052"/>
                  <a:pt x="9971" y="12154"/>
                </a:cubicBezTo>
                <a:cubicBezTo>
                  <a:pt x="10015" y="12247"/>
                  <a:pt x="10056" y="12351"/>
                  <a:pt x="10071" y="12452"/>
                </a:cubicBezTo>
                <a:cubicBezTo>
                  <a:pt x="10086" y="12559"/>
                  <a:pt x="10037" y="12559"/>
                  <a:pt x="9971" y="12551"/>
                </a:cubicBezTo>
                <a:cubicBezTo>
                  <a:pt x="9911" y="12544"/>
                  <a:pt x="9870" y="12515"/>
                  <a:pt x="9847" y="12452"/>
                </a:cubicBezTo>
                <a:cubicBezTo>
                  <a:pt x="9814" y="12360"/>
                  <a:pt x="9810" y="12267"/>
                  <a:pt x="9847" y="12179"/>
                </a:cubicBezTo>
                <a:cubicBezTo>
                  <a:pt x="9880" y="12100"/>
                  <a:pt x="9950" y="12063"/>
                  <a:pt x="9996" y="12005"/>
                </a:cubicBezTo>
                <a:cubicBezTo>
                  <a:pt x="10044" y="11945"/>
                  <a:pt x="10089" y="11888"/>
                  <a:pt x="10145" y="11832"/>
                </a:cubicBezTo>
                <a:cubicBezTo>
                  <a:pt x="10170" y="11807"/>
                  <a:pt x="10195" y="11782"/>
                  <a:pt x="10220" y="11757"/>
                </a:cubicBezTo>
              </a:path>
              <a:path w="3697" h="1613">
                <a:moveTo>
                  <a:pt x="10294" y="12576"/>
                </a:moveTo>
                <a:cubicBezTo>
                  <a:pt x="10280" y="12710"/>
                  <a:pt x="10113" y="12942"/>
                  <a:pt x="10244" y="12973"/>
                </a:cubicBezTo>
                <a:cubicBezTo>
                  <a:pt x="10264" y="12932"/>
                  <a:pt x="10273" y="12926"/>
                  <a:pt x="10269" y="12898"/>
                </a:cubicBezTo>
              </a:path>
              <a:path w="3697" h="1613">
                <a:moveTo>
                  <a:pt x="10716" y="11733"/>
                </a:moveTo>
                <a:cubicBezTo>
                  <a:pt x="10677" y="11819"/>
                  <a:pt x="10645" y="11888"/>
                  <a:pt x="10641" y="11981"/>
                </a:cubicBezTo>
                <a:cubicBezTo>
                  <a:pt x="10638" y="12064"/>
                  <a:pt x="10598" y="12143"/>
                  <a:pt x="10616" y="12229"/>
                </a:cubicBezTo>
                <a:cubicBezTo>
                  <a:pt x="10638" y="12334"/>
                  <a:pt x="10661" y="12377"/>
                  <a:pt x="10716" y="12452"/>
                </a:cubicBezTo>
                <a:cubicBezTo>
                  <a:pt x="10769" y="12524"/>
                  <a:pt x="10816" y="12596"/>
                  <a:pt x="10914" y="12526"/>
                </a:cubicBezTo>
                <a:cubicBezTo>
                  <a:pt x="10963" y="12491"/>
                  <a:pt x="10992" y="12432"/>
                  <a:pt x="11013" y="12378"/>
                </a:cubicBezTo>
                <a:cubicBezTo>
                  <a:pt x="11037" y="12317"/>
                  <a:pt x="11059" y="12195"/>
                  <a:pt x="11038" y="12129"/>
                </a:cubicBezTo>
                <a:cubicBezTo>
                  <a:pt x="11030" y="12121"/>
                  <a:pt x="11021" y="12113"/>
                  <a:pt x="11013" y="12105"/>
                </a:cubicBezTo>
                <a:cubicBezTo>
                  <a:pt x="10959" y="12158"/>
                  <a:pt x="10943" y="12200"/>
                  <a:pt x="10939" y="12278"/>
                </a:cubicBezTo>
                <a:cubicBezTo>
                  <a:pt x="10934" y="12365"/>
                  <a:pt x="10945" y="12448"/>
                  <a:pt x="10988" y="12526"/>
                </a:cubicBezTo>
                <a:cubicBezTo>
                  <a:pt x="11016" y="12554"/>
                  <a:pt x="11030" y="12563"/>
                  <a:pt x="11063" y="12551"/>
                </a:cubicBezTo>
              </a:path>
              <a:path w="3697" h="1613">
                <a:moveTo>
                  <a:pt x="11361" y="11658"/>
                </a:moveTo>
                <a:cubicBezTo>
                  <a:pt x="11295" y="11724"/>
                  <a:pt x="11311" y="11747"/>
                  <a:pt x="11286" y="11832"/>
                </a:cubicBezTo>
                <a:cubicBezTo>
                  <a:pt x="11258" y="11930"/>
                  <a:pt x="11246" y="12048"/>
                  <a:pt x="11261" y="12154"/>
                </a:cubicBezTo>
                <a:cubicBezTo>
                  <a:pt x="11273" y="12240"/>
                  <a:pt x="11323" y="12325"/>
                  <a:pt x="11361" y="12402"/>
                </a:cubicBezTo>
                <a:cubicBezTo>
                  <a:pt x="11381" y="12443"/>
                  <a:pt x="11448" y="12554"/>
                  <a:pt x="11509" y="12551"/>
                </a:cubicBezTo>
                <a:cubicBezTo>
                  <a:pt x="11606" y="12546"/>
                  <a:pt x="11622" y="12473"/>
                  <a:pt x="11658" y="12402"/>
                </a:cubicBezTo>
                <a:cubicBezTo>
                  <a:pt x="11709" y="12300"/>
                  <a:pt x="11708" y="12217"/>
                  <a:pt x="11708" y="12105"/>
                </a:cubicBezTo>
                <a:cubicBezTo>
                  <a:pt x="11708" y="11988"/>
                  <a:pt x="11674" y="11908"/>
                  <a:pt x="11633" y="11807"/>
                </a:cubicBezTo>
                <a:cubicBezTo>
                  <a:pt x="11598" y="11720"/>
                  <a:pt x="11568" y="11676"/>
                  <a:pt x="11485" y="11633"/>
                </a:cubicBezTo>
                <a:cubicBezTo>
                  <a:pt x="11451" y="11615"/>
                  <a:pt x="11333" y="11575"/>
                  <a:pt x="11311" y="11633"/>
                </a:cubicBezTo>
                <a:cubicBezTo>
                  <a:pt x="11311" y="11692"/>
                  <a:pt x="11314" y="11718"/>
                  <a:pt x="11336" y="11757"/>
                </a:cubicBezTo>
              </a:path>
              <a:path w="3697" h="1613">
                <a:moveTo>
                  <a:pt x="12179" y="11509"/>
                </a:moveTo>
                <a:cubicBezTo>
                  <a:pt x="12086" y="11438"/>
                  <a:pt x="12003" y="11331"/>
                  <a:pt x="11881" y="11385"/>
                </a:cubicBezTo>
                <a:cubicBezTo>
                  <a:pt x="11799" y="11421"/>
                  <a:pt x="11889" y="11517"/>
                  <a:pt x="11906" y="11559"/>
                </a:cubicBezTo>
                <a:cubicBezTo>
                  <a:pt x="11947" y="11659"/>
                  <a:pt x="12018" y="11739"/>
                  <a:pt x="12080" y="11832"/>
                </a:cubicBezTo>
                <a:cubicBezTo>
                  <a:pt x="12142" y="11925"/>
                  <a:pt x="12213" y="12026"/>
                  <a:pt x="12254" y="12129"/>
                </a:cubicBezTo>
                <a:cubicBezTo>
                  <a:pt x="12301" y="12245"/>
                  <a:pt x="12345" y="12317"/>
                  <a:pt x="12303" y="12427"/>
                </a:cubicBezTo>
                <a:cubicBezTo>
                  <a:pt x="12240" y="12427"/>
                  <a:pt x="12206" y="12417"/>
                  <a:pt x="12154" y="12378"/>
                </a:cubicBezTo>
                <a:cubicBezTo>
                  <a:pt x="12093" y="12333"/>
                  <a:pt x="12106" y="12285"/>
                  <a:pt x="12080" y="12229"/>
                </a:cubicBezTo>
                <a:cubicBezTo>
                  <a:pt x="12042" y="12148"/>
                  <a:pt x="12067" y="12122"/>
                  <a:pt x="12080" y="12030"/>
                </a:cubicBezTo>
                <a:cubicBezTo>
                  <a:pt x="12089" y="11965"/>
                  <a:pt x="12122" y="11920"/>
                  <a:pt x="12154" y="11857"/>
                </a:cubicBezTo>
                <a:cubicBezTo>
                  <a:pt x="12187" y="11790"/>
                  <a:pt x="12225" y="11761"/>
                  <a:pt x="12229" y="11683"/>
                </a:cubicBezTo>
                <a:cubicBezTo>
                  <a:pt x="12229" y="11633"/>
                  <a:pt x="12229" y="11617"/>
                  <a:pt x="12229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Ink 11"/>
          <p:cNvSpPr/>
          <p:nvPr/>
        </p:nvSpPr>
        <p:spPr>
          <a:xfrm>
            <a:off x="1366920" y="3848040"/>
            <a:ext cx="3446280" cy="1152720"/>
          </a:xfrm>
          <a:custGeom>
            <a:avLst/>
            <a:gdLst/>
            <a:ahLst/>
            <a:rect l="l" t="t" r="r" b="b"/>
            <a:pathLst>
              <a:path w="9576" h="3201">
                <a:moveTo>
                  <a:pt x="4514" y="11261"/>
                </a:moveTo>
                <a:cubicBezTo>
                  <a:pt x="4507" y="11502"/>
                  <a:pt x="4473" y="11740"/>
                  <a:pt x="4465" y="11981"/>
                </a:cubicBezTo>
                <a:cubicBezTo>
                  <a:pt x="4459" y="12152"/>
                  <a:pt x="4471" y="12334"/>
                  <a:pt x="4440" y="12502"/>
                </a:cubicBezTo>
                <a:cubicBezTo>
                  <a:pt x="4393" y="12754"/>
                  <a:pt x="4341" y="12766"/>
                  <a:pt x="4266" y="12923"/>
                </a:cubicBezTo>
                <a:cubicBezTo>
                  <a:pt x="4258" y="12915"/>
                  <a:pt x="4250" y="12906"/>
                  <a:pt x="4242" y="12898"/>
                </a:cubicBezTo>
                <a:cubicBezTo>
                  <a:pt x="4196" y="12707"/>
                  <a:pt x="4153" y="12546"/>
                  <a:pt x="4167" y="12328"/>
                </a:cubicBezTo>
                <a:cubicBezTo>
                  <a:pt x="4179" y="12139"/>
                  <a:pt x="4206" y="11943"/>
                  <a:pt x="4242" y="11757"/>
                </a:cubicBezTo>
                <a:cubicBezTo>
                  <a:pt x="4266" y="11631"/>
                  <a:pt x="4289" y="11508"/>
                  <a:pt x="4316" y="11385"/>
                </a:cubicBezTo>
                <a:cubicBezTo>
                  <a:pt x="4335" y="11299"/>
                  <a:pt x="4342" y="11183"/>
                  <a:pt x="4390" y="11112"/>
                </a:cubicBezTo>
                <a:cubicBezTo>
                  <a:pt x="4431" y="11051"/>
                  <a:pt x="4401" y="11028"/>
                  <a:pt x="4490" y="10988"/>
                </a:cubicBezTo>
                <a:cubicBezTo>
                  <a:pt x="4568" y="10953"/>
                  <a:pt x="4776" y="10973"/>
                  <a:pt x="4862" y="10964"/>
                </a:cubicBezTo>
                <a:cubicBezTo>
                  <a:pt x="4987" y="10951"/>
                  <a:pt x="5109" y="10952"/>
                  <a:pt x="5234" y="10939"/>
                </a:cubicBezTo>
                <a:cubicBezTo>
                  <a:pt x="5380" y="10924"/>
                  <a:pt x="5534" y="10910"/>
                  <a:pt x="5680" y="10889"/>
                </a:cubicBezTo>
                <a:cubicBezTo>
                  <a:pt x="5987" y="10845"/>
                  <a:pt x="6290" y="10798"/>
                  <a:pt x="6598" y="10765"/>
                </a:cubicBezTo>
                <a:cubicBezTo>
                  <a:pt x="6878" y="10735"/>
                  <a:pt x="7158" y="10718"/>
                  <a:pt x="7441" y="10716"/>
                </a:cubicBezTo>
                <a:cubicBezTo>
                  <a:pt x="7683" y="10714"/>
                  <a:pt x="7923" y="10716"/>
                  <a:pt x="8161" y="10716"/>
                </a:cubicBezTo>
                <a:cubicBezTo>
                  <a:pt x="9544" y="10716"/>
                  <a:pt x="10924" y="10765"/>
                  <a:pt x="12303" y="10765"/>
                </a:cubicBezTo>
                <a:cubicBezTo>
                  <a:pt x="12470" y="10765"/>
                  <a:pt x="12901" y="10689"/>
                  <a:pt x="13047" y="10790"/>
                </a:cubicBezTo>
                <a:cubicBezTo>
                  <a:pt x="13108" y="10832"/>
                  <a:pt x="13101" y="10897"/>
                  <a:pt x="13122" y="10964"/>
                </a:cubicBezTo>
                <a:cubicBezTo>
                  <a:pt x="13173" y="11131"/>
                  <a:pt x="13132" y="11382"/>
                  <a:pt x="13146" y="11559"/>
                </a:cubicBezTo>
                <a:cubicBezTo>
                  <a:pt x="13159" y="11719"/>
                  <a:pt x="13173" y="11895"/>
                  <a:pt x="13196" y="12055"/>
                </a:cubicBezTo>
                <a:cubicBezTo>
                  <a:pt x="13230" y="12288"/>
                  <a:pt x="13271" y="12516"/>
                  <a:pt x="13295" y="12750"/>
                </a:cubicBezTo>
                <a:cubicBezTo>
                  <a:pt x="13312" y="12924"/>
                  <a:pt x="13328" y="13097"/>
                  <a:pt x="13345" y="13271"/>
                </a:cubicBezTo>
                <a:cubicBezTo>
                  <a:pt x="13355" y="13370"/>
                  <a:pt x="13405" y="13474"/>
                  <a:pt x="13345" y="13568"/>
                </a:cubicBezTo>
                <a:cubicBezTo>
                  <a:pt x="13299" y="13640"/>
                  <a:pt x="13326" y="13646"/>
                  <a:pt x="13246" y="13692"/>
                </a:cubicBezTo>
                <a:cubicBezTo>
                  <a:pt x="13170" y="13735"/>
                  <a:pt x="12871" y="13692"/>
                  <a:pt x="12799" y="13692"/>
                </a:cubicBezTo>
                <a:cubicBezTo>
                  <a:pt x="12609" y="13692"/>
                  <a:pt x="12414" y="13707"/>
                  <a:pt x="12229" y="13742"/>
                </a:cubicBezTo>
                <a:cubicBezTo>
                  <a:pt x="12086" y="13769"/>
                  <a:pt x="11949" y="13791"/>
                  <a:pt x="11807" y="13816"/>
                </a:cubicBezTo>
                <a:cubicBezTo>
                  <a:pt x="11643" y="13845"/>
                  <a:pt x="11477" y="13883"/>
                  <a:pt x="11311" y="13891"/>
                </a:cubicBezTo>
                <a:cubicBezTo>
                  <a:pt x="10708" y="13921"/>
                  <a:pt x="10097" y="13876"/>
                  <a:pt x="9500" y="13816"/>
                </a:cubicBezTo>
                <a:cubicBezTo>
                  <a:pt x="9235" y="13789"/>
                  <a:pt x="8970" y="13772"/>
                  <a:pt x="8706" y="13742"/>
                </a:cubicBezTo>
                <a:cubicBezTo>
                  <a:pt x="8356" y="13703"/>
                  <a:pt x="8013" y="13637"/>
                  <a:pt x="7665" y="13593"/>
                </a:cubicBezTo>
                <a:cubicBezTo>
                  <a:pt x="7169" y="13531"/>
                  <a:pt x="6672" y="13491"/>
                  <a:pt x="6176" y="13444"/>
                </a:cubicBezTo>
                <a:cubicBezTo>
                  <a:pt x="5928" y="13421"/>
                  <a:pt x="5680" y="13381"/>
                  <a:pt x="5432" y="13370"/>
                </a:cubicBezTo>
                <a:cubicBezTo>
                  <a:pt x="5200" y="13360"/>
                  <a:pt x="4969" y="13329"/>
                  <a:pt x="4738" y="13320"/>
                </a:cubicBezTo>
                <a:cubicBezTo>
                  <a:pt x="4530" y="13312"/>
                  <a:pt x="4324" y="13303"/>
                  <a:pt x="4118" y="13295"/>
                </a:cubicBezTo>
                <a:cubicBezTo>
                  <a:pt x="4016" y="13291"/>
                  <a:pt x="3881" y="13320"/>
                  <a:pt x="3795" y="13271"/>
                </a:cubicBezTo>
                <a:cubicBezTo>
                  <a:pt x="3795" y="13221"/>
                  <a:pt x="3795" y="13204"/>
                  <a:pt x="3795" y="131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Pages 644-645</a:t>
            </a:r>
            <a:br>
              <a:rPr sz="7500"/>
            </a:b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#1-17,21,27,55</a:t>
            </a:r>
            <a:endParaRPr b="0" lang="en-US" sz="75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29:21Z</dcterms:created>
  <dc:creator>jnewman</dc:creator>
  <dc:description/>
  <dc:language>en-US</dc:language>
  <cp:lastModifiedBy>abeason</cp:lastModifiedBy>
  <dcterms:modified xsi:type="dcterms:W3CDTF">2010-03-08T14:53:14Z</dcterms:modified>
  <cp:revision>11</cp:revision>
  <dc:subject/>
  <dc:title>Lesson 9.3</dc:title>
</cp:coreProperties>
</file>